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02D-6D82-4D3D-A7CD-A6811621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137-988E-45B2-AD1D-8562B197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AEDF-1FA3-4CE2-93A4-5B870036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12A-9097-473D-96E4-ECBD6557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A63-B0D7-4BDA-9E61-09037443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5FD-6BA0-4FF5-A84B-4DB440E1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A84C-9F12-4459-914E-49A186B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721-EEC2-4169-85F9-CA76B03C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196-0135-4705-A52E-D8FBBB38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804-0969-40B8-8A66-B7442E8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C79-1BAE-4CA6-8FCB-EA49BE3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ECE-5786-474F-B2F0-4489331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A992-4D5F-4FC8-9097-E137F57B2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10-D48F-4B38-932D-FF4F734B5180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7CB-2145-4FDC-92E8-19A044FCEBD2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is a set of numbers that follow a pattern or a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3,  5,  7,  9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 9,  13,  17,  21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 6,  12,  24,  48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4,  9,  16,  25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D22-947D-453E-B52A-36D8A9BBA320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each sequence and add the nex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 9,  14,  19,  24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  93,  86,  79,  72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2,  4,  7,  11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99,  999,  9999,  99999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1,  2,  3,  5,  8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,  128,  64,  32, ......,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Write the fir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 of the follow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s of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014-BB66-4BD5-A764-26684038E8B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and fill in the missing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 4, ......, 8,  10, ......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......, 10, ......, 16, 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......, ......, 32,  64, ......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 ......, 90,  85, 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 9, ......, 4,  0,  ......,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agram below forms a sequ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diagram and add the next tw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how many balls are in each p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8000" y="5229360"/>
          <a:ext cx="4680000" cy="13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5229360"/>
                    <a:ext cx="468000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99C-184C-4823-B1EF-294E4573929F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Sequenc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ition-to-te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u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number in the sequence is determined by its position in th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a position-to-term rule i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the position by 5 and add 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1 =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5 + 2 = 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2 = 2 × 5 + 2 = 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3 = 3 × 5 + 2 = 1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4 = 4 × 5 + 2 = 2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5 = 5 × 5 + 2 = 2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• • • • • • • • • • • • • • • • •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n = n × 5 + 2 =&gt;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861-79AB-42C7-AECE-D8F05E05131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the first 5 terms of each sequenc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8n + 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5n - 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7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0 - 2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2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9 - 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 + 1)(n + 2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j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-n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 - 1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2n-1)(n +1)(n - 3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-1)/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n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+1)/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927-B6A2-439C-A424-50375447F0C6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low are four position-to-term rules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8 + 2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(n+5)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out the first five terms of each of thes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rules giv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ith the same first term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hose third term is 24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hose tenth term is great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 1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EEB-3110-43EA-9903-5CE732AD6D2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linear sequence the terms go up or down by the same amount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12, 15, 18, 21, 24, ...  goes up in 3s =&gt; linea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, 95, 90, 85, 80, ... goes down in 5s =&gt;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find the nth term of a linear sequenc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tract the first term from each term and put the results in a tab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.g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the nth term is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2 + 3(n-1) = 9 + 3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 for the other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4437000"/>
          <a:ext cx="6096240" cy="1366920"/>
        </p:xfrm>
        <a:graphic>
          <a:graphicData uri="http://schemas.openxmlformats.org/drawingml/2006/table">
            <a:tbl>
              <a:tblPr/>
              <a:tblGrid>
                <a:gridCol w="2232000"/>
                <a:gridCol w="647640"/>
                <a:gridCol w="648000"/>
                <a:gridCol w="649080"/>
                <a:gridCol w="647640"/>
                <a:gridCol w="648000"/>
                <a:gridCol w="6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99F-C1CA-4008-8383-85187516A704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 Find the nth term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of each of these sequences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, 9, 14, 19, 24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1, 3, 5, 7, 9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, 12, 14, 16, 18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1, 1.5, 2, 2.5, 3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4, -2, 0, 2, 4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 10, 17, 24, 31, 38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up in 10s, starting from 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down in 4s from 7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down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¼ from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Write five linear sequences of your own that each have a third term of 15.  Write the nth term for each one and then write the 100th term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nth term of this sequenc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th term is 20,   6th term is 28,  7th term is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BEB-3AF2-4508-A4FA-25B0E4C8691F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2-06T12:30:50Z</dcterms:modified>
  <cp:revision>122</cp:revision>
  <dc:subject/>
  <dc:title>U4</dc:title>
</cp:coreProperties>
</file>