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B54-4B24-41E0-8504-46F1EA81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219-9B60-437A-A265-5775E731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98E-8212-4598-B8EC-18D9B74D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8EB-E233-43E2-85BF-99FB25B4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8B0-CAC7-4C8B-9AB7-B9007203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CD0-4F66-4BBC-BDD0-571C7D5E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10B-1343-4EBF-B58C-221DA059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153-8132-4474-A93F-4213BF89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088-FFBB-4C54-BB47-DF309F48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A31-B952-4C4E-9A8D-BE46B4C5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B1D-33D2-4240-B2C2-873078E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8A0-2478-4CF5-A8B5-40EDBACD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4AD2-687D-40EE-BF08-2BADACAB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wers and Indi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E01-0059-443C-985F-51A96C36A1F3}" type="slidenum">
              <a:t>1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x 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 multiplication can be written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atio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2 × 2 × 2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powers of the same number are multiplied together, the indices are ad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5 + 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powers of the same number are divided together, the indices are subtrac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7 - 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number (except 0) to the power 0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number to the power 1 is th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64D-8A15-49F0-874B-61FAD3A3B5C6}" type="slidenum">
              <a:t>2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 Find the value of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 Find, in index form, the values of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 Write each of these numbers as a prime n umber raised to a power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1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12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1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 6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24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)  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174-A29B-4B7D-AF66-BC8CF1733015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 Write these numbers as products of their prime factors, using index notation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5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3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2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  1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4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g)  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h)  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  Write the values of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19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  (1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8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7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Simplify, giving the answer in index form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(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×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× 5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)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8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i)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× 6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33A-34D6-4BEB-B49E-E03D7A7BFB6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Index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ces can be fractions as well as whole number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½ + ½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×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= 5, 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=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general,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equal to 1/x for any value of x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the reciprocal of x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,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eans 1/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the reciprocal of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general, when finding the power of a power, multiply the ind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 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2F6-2BB3-4E83-968B-A30DCA59A848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 Evaluate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 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36½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8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(92.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 Simplify these expressions, in index form: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) 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b) 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) 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)  (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e)  (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)  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g)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h) 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i) 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j) 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k)  {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×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B0D-EAC3-4F4F-BF31-114086A94D9D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EB1-A754-47CB-9F94-FD5B434186FF}" type="slidenum">
              <a:t>7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6-01-23T10:56:48Z</dcterms:modified>
  <cp:revision>120</cp:revision>
  <dc:subject/>
  <dc:title>U4</dc:title>
</cp:coreProperties>
</file>