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C74-F0A1-4618-B426-806EA4E7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05C-E27E-4474-9722-3E2B176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802-DBF3-46B0-8CC7-582B1625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3A3-E7A0-4362-B4A8-167D7797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3D5-A1F6-40FC-ADC3-912CFA85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0FE-9EB4-4B4F-BE5E-946F6C43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1E1-82BD-4567-A587-1808410E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219-46D6-48F5-8C40-D82C53E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2EC-542E-4679-9AD9-337F475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179-B6B6-4B79-9111-75E0081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47C-A53C-44B0-B429-4628B90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845-439D-42A5-8028-7DAA1F58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F5A0-323C-4D64-803E-4050CE8E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tors and Pri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461-C138-4FD1-BD87-BCA1AD5F97EE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 component of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umber i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umber is a number which only has two factors - itself and 1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7 = 7 ×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 the first 20 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 2, 3, 5, 7, 11, 13, 17, 19, 23, 29, 31, 37, 41, 43, 47, 53, 59, 61, 67, 71, 7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BDB-7C7A-4755-955D-37E39FCFA21A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me Fact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greater than 1 can be written as a unique product of its prime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e Factor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numb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56 = 2 × 2 × 2 × 7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 trees are a way to find factors systematicall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 84 = 2 × 2 × 3 × 7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 ×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B8D-29E7-4C31-9E76-7769BD558C4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ime factors using factor trees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umber, find the prime factors and write it as the product of powers of its prime fa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 1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3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  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 4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  9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10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)  25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)  63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)  8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)  1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)  1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FBE-8759-4CBE-87D0-65B7AEF9B0C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st comm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CF) of two numbers is the largest number that is a factor of both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HCF of two number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ll the factors of each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largest factor that is in both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the HCF of 12 and 1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12 are 1, 2, 3, 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18 are 1, 2, 3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9,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The HCF of 12 and 18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CF of  (a)  28 and 36,  (b)  14 and 35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50 and 70,  (d)  42 and 56,  (e)  60 and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BD3-13C6-4611-8538-AB821FDC639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 common 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CM) of two numbers is the smallest number tha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LCM of two number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first few multiples of each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mallest multiple that is in both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LCM of 12 and 1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s of 12 are  12, 2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8, 6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s of 18 are  18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4, 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CM of 12 and 18 is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CM of  (a)  4 and 5,  (b)  6 and 8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5 and 30,  (d)  14 and 35,  (e)  8 an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7A9-ED97-419A-AEDF-549A48BAED6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enn diagram is a way of representing groups of numbers and can be used to find the HCF and LCM of pairs of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find the HCF and LCM of 36 and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ime factors for 36 a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ime factors for 28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on factors are in the 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4005360"/>
          <a:ext cx="576108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005360"/>
                    <a:ext cx="5761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FB7-C28E-4DAE-9306-84AE8B3ABEA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gt; The HCF of 36 and 28 is the product of the numbers in the intersection - i.e.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The LCM is the product of all of the numbers in the diagram - i.e.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 = 4 × 9 × 7 = 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Venn diagram method to work out the HCF and LCM for the following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25 and 12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16 and 108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60 and 144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42 and 56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15 and 35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20 and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7B7-721E-4A99-ADFD-30302EE25DD4}" type="slidenum">
              <a:t>8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1-10T11:57:05Z</dcterms:modified>
  <cp:revision>117</cp:revision>
  <dc:subject/>
  <dc:title>U4</dc:title>
</cp:coreProperties>
</file>