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F2BE-805D-4991-A936-DD918EF38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631A-E8A2-40CF-A82A-D6E0E62F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0F5E-B3D6-4F87-B5D2-6DD9C9619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C75E-BDF6-48D7-A08D-C1E79FEFD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0D15-71C0-48B3-9E54-113DD8D0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A776-9527-4E0A-8732-529820D7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E288-121F-41D7-8145-322B2555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07FE-09AD-4A5B-A64A-A64BB72E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125A-660D-4769-A8F0-F88425C1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7A37-BA5A-4F73-A296-DC8029EB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11AD-A128-4FDB-A442-96E73E18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F1F3-F625-4671-849D-9422F5DA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4BC7-4B4C-4C42-82B8-EE737B20D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UNIT 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26560" y="3500280"/>
            <a:ext cx="792036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F776-75C0-4447-A7F5-4BDC7C3C8A28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07760" y="1267920"/>
            <a:ext cx="84358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.  Decide which of the following are id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(m + 9) = 5m + 4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m(m – 2) = 4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8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)  (x + 3)(x + 4) =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7x +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)  (3x + 2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9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12x +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x – 5)(2x + 5) = 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.  Solve the following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)  3x - 7 = 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)  4(y + 3) =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)  17x = 3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)  2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9) = 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)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4 = 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)  2x + 4 = x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  4(7 + 2z) = 15 - 8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)  10 - 4x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)  (y - 7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y + 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j)  36 = 2(3 - 6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D1FC-5121-4D33-990A-017B2EC50C49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describe the relationship between variabl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re very useful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ters are used to represent qua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 Area of a triangle      A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½ b × 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re b = base length and h = he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bers are substituted into a formul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.g.  base = 8cm, height = 6cm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&gt; A = ½ × 8 × 6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.g.  Volume of a box    V = L x W x 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ngth = 4m,  Width = 3m,  Height = 2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 = 4 × 3 × 2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E5EC-9B19-46F8-BA62-8E7993284DEC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).  Work out the value of y when x = 4 and c =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)  y = 3x + 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)  y = 4x -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c)  y = cx + 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d)  y = 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2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d)  y = c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e)  y = 2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4x +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).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ampsite charges for the pitching of a tent and the number of people, p, that stay in it.  If C is the total cost in pounds, the formula used by the campsite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= 2p +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)  Work out the cost of pitching a tent for 6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)  If the cost is £23, how many people are sleeping in the t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c)  Explain why the cost could never be £2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D68F-66BC-4460-B7F9-6B9ECF166DCB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formul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riving your own formula is when you use letters to represent quantities in a calc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 Your employers pay you a retainer of £5 per week plus £4 per hour worked.  Write a formula for how much you get paid each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 P represent your weekly pay, and h the hours you work in a week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do not work any hours you receive £5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work 1 hour you receive £5 + £4 = £9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work 2 hours you receive £5 + 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 £4 = £1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you work h hours you receive £5 + h × £4 = £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 P = 5 + 4h  pounds per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96DC-B0FB-494A-B197-66109ABFD58E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.  You are paid according to the formul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5 + 4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)  How much pay do you receive if you work 15 hours in a wee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)  You receive pay of £81.  How many hours did you work that wee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.  Write formulae for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)  The cost, P, of buying d dollars if the exchange rate is $1 = £0.60 and there is a fee of £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)  The phone bill, B, if you send n texts at 10p each, make m minutes of calls at 5p per minute and pay a line rental of £5.60 per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C519-6D81-4D7A-9B43-B5543E73FE0B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. Using your formulae from Q2, answer the following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)  Find the cost of buying 40 doll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)  Your total bill for buying dollars is £27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dollars did you bu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)  You send 200 texts and make 150 minutes of phone calls in a month.  What will be your bi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)  The following month your bill is £32.60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sent 100 texts, how many minutes of phone calls did you ma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55C0-7431-45F3-A5B5-26C833EB134E}" type="slidenum">
              <a:t>15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ifying us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ex la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a power.  (pl. indi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the number raised to this p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×4×4 = 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multiplying, add the ind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dividing, subtract the ind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brackets, multiply the ind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coefficients, deal with these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.g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×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20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B978-A263-4A38-ADDB-3C33F48CFA7E}" type="slidenum">
              <a:t>2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). Simplify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)  j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-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 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  (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c) 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d)  9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(e)  (3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 2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)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nd the value of x in the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) If u=3x, show that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x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n b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ritten as 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3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 Write an expression in terms of x for 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9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c) Write an expression in terms of x for 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1/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d) Write 8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x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 terms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AE76-33BC-41E6-94C3-B71C8424370C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anding single an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uble brack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xpand a single bracket, multiply all terms in the bracket by the term out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y(3x - 4) = 6xy - 8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xpand double brackets, multiply each term in the second bracket by each term in the first brac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x + 3)(4x –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8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12x -4x -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8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8x -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5D5A-CE99-461B-96FD-BDEE59A2B0FD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. Expand and simpl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)  3m(5 - 2m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)  4(t + 9) – 3(2t – 7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)  (7h + 9) – (3h – 7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)  x(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)  (x + 7)(x + 6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)  (3m – 7)(2m –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  (x + 4)(x – 6) +(x + 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)  (3t – 2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)  (2y – 1)(y + 5)(y – 3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)  (x + 2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.  Given that two consecutive odd numbers can be written as (2n – 1) and (2n + 1) respectively, show that the difference between their squares is 8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25BF-2F41-4435-B6AE-68D09DA79522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verse of expa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actorise into single brackets, remove the Highest Common Factors (HCF) of the ter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HCF of the coefficients first, then the HCF of the algebraic ter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9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x+3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double brackets, look for two numbers that add to give the coefficient of x and multiply to give the cons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1x + 28 = (x + 4)(x +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8B2A-3668-4D56-8049-5E864433679D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).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y factorise by removing common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)  2x + 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)  12p + 36q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c)  25w – 5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d)  25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10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e)  7x + 14x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f)  ab – 2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).  Factorise these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)  10(x + y) + 13(x + y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)  (a – b)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5(a – b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c)  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ab + 2a + 2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d)  cd + ce – me – 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).  Use factorisation to help you work out the following without a 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)  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 1.86 + 2 × 1.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  3 × 5.87 – 3 × 0.37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c)  5.8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5.86 × 4.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c)  3.32 × 6.68 + 3.3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7BE2-CFA1-4F57-BC08-06A6267FA814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).  Factorise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)  10p – 1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)  3p + 9pq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c)  7xy – 56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d)  4(p – q) + (p – q)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e)  ax + bx + ay + b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f)  ac – ad – bc + b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)  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7x + 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h)  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2x – 35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)  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x – 2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j)  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25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k)  3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6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l)  xy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3xy – 108x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m)  10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70x + 12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n)  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ab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2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)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) Factorise 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2xy + y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)  Use your answer to (a) to find, without 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ulator, the valu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.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12.3×7.7 + 7.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4A88-FA32-4813-8DEE-876081C87DFE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ties and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3640" y="1528560"/>
            <a:ext cx="8435880" cy="47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t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are true for all values of x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w that the left hand side is equal to the right hand sid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 x(x + 1)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are only true for a limited number of values of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ve by gathering the unknowns on one side and the numbers on the other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 2x + 1 = 5    =&gt;  x =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BC48-8615-47AB-A269-24599A3E237F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09:08:36Z</dcterms:created>
  <dc:creator>IKES</dc:creator>
  <dc:description/>
  <dc:language>en-US</dc:language>
  <cp:lastModifiedBy>IKES</cp:lastModifiedBy>
  <dcterms:modified xsi:type="dcterms:W3CDTF">2015-09-27T09:57:44Z</dcterms:modified>
  <cp:revision>95</cp:revision>
  <dc:subject/>
  <dc:title>U4</dc:title>
</cp:coreProperties>
</file>