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1AC-0831-402F-9F1C-4EE7F0A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9C9-7AC0-4415-89A7-815E5A3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CD7-579E-428C-959F-71C00989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C87-F91B-4EC7-B575-17BD0017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0EA-794A-4E94-B155-773B0AF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A6B-99DD-40EA-B478-4A2E586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E43-846D-47D0-86BC-88362E4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701-2A5C-4D07-9BD4-84D3EAC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A9B-7E55-483D-99A6-89AE8D28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2A0-9C3B-41E0-8CAC-E6C720F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03F-C927-4AC0-BBC3-7BDC79C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B7C-19EE-4D84-AE37-D582775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BBE-E3AC-41C4-A10B-CF708EE29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A2A-0CB8-468F-9430-605980B9EC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ubstituti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R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2, R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V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 t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8, t =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D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4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6 - 4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6 - 4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- 4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9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 + 7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 + 3x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values into the expression and then calculate like a normal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y = x+2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If x = 3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=&gt; y = 3+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6EA-7D26-4B1B-9260-EB9AC260A1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= x - 3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x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 = q + 4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q =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p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= 2x - 2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If x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y = x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x -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y = x +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If x =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=&gt; y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2-26T09:10:30Z</dcterms:modified>
  <cp:revision>95</cp:revision>
  <dc:subject/>
  <dc:title>U4</dc:title>
</cp:coreProperties>
</file>