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F0A-8067-45E2-A6AE-14170657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326-1E9F-4606-91E3-AD0E59BE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DC7-96BC-4FE6-B248-4C1C59B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14C-F38B-4F1D-BA26-45E9E35C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E98-0E87-4B26-A34E-540F616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2DB-1BB3-41A2-A961-FE192B70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938-B55D-4ED5-A50D-7D6A767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1A9-A98C-40A0-88F4-9055DD61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9A0-4087-4263-A6ED-0B7FB9BF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DE8-711F-4CD3-BBE6-FBA34AE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1E7-1D55-4D76-A739-B833174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853-A232-4C1A-86DA-DDAFA9D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5B1-C513-4B03-B30B-78BF5AB77D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EEE7-2F3F-419B-A759-82DB0833E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rcentages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% of 16.8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% of -36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50% of 2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% of 5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% of 6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% of £30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10% of 200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% of £2000 =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centages are fractions of 100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25% of a number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¼ of the numb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25% of 20 is ¼ of 20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ilarly 125% of 20 is =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an be useful for working out discounts in shops and interest on lo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% of 20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% of 2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0% of 42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5% of 16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% of 4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% of -3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0% of 50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3-20T09:51:58Z</dcterms:modified>
  <cp:revision>98</cp:revision>
  <dc:subject/>
  <dc:title>U4</dc:title>
</cp:coreProperties>
</file>