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038-9008-4B01-A5AB-CC7B0AE4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2ED-5D92-49C8-8E17-FAE38E4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F0E-14C9-44CA-9196-7764157A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089-BE87-4466-B0FC-8CDDC18C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EB8-42EC-428D-A2F8-876AAE3E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458-907D-4E6F-9A5E-E86DFFB0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EAC-7E61-4B74-9B5E-2BE9F4D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EC0-5663-4180-9EF3-BB399A6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A35-2029-4435-9505-2E93D776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38F-EBE8-4607-8ED9-02022B7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B6B-C954-4D2A-A829-A940671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4BE-16E3-44F5-9DE5-B959263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CA8-09BF-4169-9336-C0A418C01C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0B58-286A-4074-AEFD-EC70CCA309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irected numbers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+4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6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7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ed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+ = + 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× - =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× - = - 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× + 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:  we do not usually put a + sign infront of a positive directed numb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 3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 - 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3 + 2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 - 7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5 - 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6 + 4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7 - 8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 - 9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3-12T10:06:27Z</dcterms:modified>
  <cp:revision>97</cp:revision>
  <dc:subject/>
  <dc:title>U4</dc:title>
</cp:coreProperties>
</file>