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BFA2-C4CA-4323-890B-83361CCF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1D0B-4ED6-4CCC-BC87-F6D0A73E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734F-14E9-4BA4-AB46-86D4B8EA0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022A-9A36-4D70-A8A8-A86EAB5E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63EA-F37E-42A0-A5E0-CA9FF705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895B-582B-4355-B563-2B49BF39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823E-17BA-4992-B9B0-91A5EAC6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6CF7-F572-4426-8D93-059C4340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6EC4-1BD5-48EB-94D9-A2452008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BFBD-03AC-4680-85DD-E8726644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BF21-9C18-47F3-8B97-6F7D293A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5D5E-FEBB-44DE-A4AA-077D8F6A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0626-1EB0-431C-B216-FE4A8D5BA18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5617-A1FD-4492-AD0B-F726259C41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UNIT 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560" y="3500280"/>
            <a:ext cx="792036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Arrange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38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2y +4 = x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y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38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V = </a:t>
            </a:r>
            <a:r>
              <a:rPr b="0" lang="en-GB" sz="9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 R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R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38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D = </a:t>
            </a:r>
            <a:r>
              <a:rPr b="0" lang="en-GB" sz="9600" spc="-1" strike="noStrike">
                <a:solidFill>
                  <a:srgbClr val="000000"/>
                </a:solidFill>
                <a:latin typeface="Arial Unicode MS"/>
              </a:rPr>
              <a:t>S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 t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t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38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y - x = </a:t>
            </a:r>
            <a:r>
              <a:rPr b="0" lang="en-GB" sz="9600" spc="-1" strike="noStrike">
                <a:solidFill>
                  <a:srgbClr val="000000"/>
                </a:solidFill>
                <a:latin typeface="Arial Unicode MS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y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38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y - x = </a:t>
            </a:r>
            <a:r>
              <a:rPr b="0" lang="en-GB" sz="9600" spc="-1" strike="noStrike">
                <a:solidFill>
                  <a:srgbClr val="000000"/>
                </a:solidFill>
                <a:latin typeface="Arial Unicode MS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x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38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2y - 3x = </a:t>
            </a:r>
            <a:r>
              <a:rPr b="0" lang="en-GB" sz="9600" spc="-1" strike="noStrike">
                <a:solidFill>
                  <a:srgbClr val="000000"/>
                </a:solidFill>
                <a:latin typeface="Arial Unicode MS"/>
              </a:rPr>
              <a:t>6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y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38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2y - 3x = </a:t>
            </a:r>
            <a:r>
              <a:rPr b="0" lang="en-GB" sz="9600" spc="-1" strike="noStrike">
                <a:solidFill>
                  <a:srgbClr val="000000"/>
                </a:solidFill>
                <a:latin typeface="Arial Unicode MS"/>
              </a:rPr>
              <a:t>6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x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38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2y = </a:t>
            </a:r>
            <a:r>
              <a:rPr b="0" lang="en-GB" sz="9600" spc="-1" strike="noStrike">
                <a:solidFill>
                  <a:srgbClr val="000000"/>
                </a:solidFill>
                <a:latin typeface="Arial Unicode MS"/>
              </a:rPr>
              <a:t>x</a:t>
            </a:r>
            <a:r>
              <a:rPr b="0" lang="en-GB" sz="9600" spc="-1" strike="noStrike" baseline="30000">
                <a:solidFill>
                  <a:srgbClr val="000000"/>
                </a:solidFill>
                <a:latin typeface="Arial Unicode MS"/>
              </a:rPr>
              <a:t>2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y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38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9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GB" sz="9600" spc="-1" strike="noStrike">
                <a:solidFill>
                  <a:srgbClr val="000000"/>
                </a:solidFill>
                <a:latin typeface="Arial Unicode MS"/>
              </a:rPr>
              <a:t>x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y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38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9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GB" sz="9600" spc="-1" strike="noStrike">
                <a:solidFill>
                  <a:srgbClr val="000000"/>
                </a:solidFill>
                <a:latin typeface="Arial Unicode MS"/>
              </a:rPr>
              <a:t>4x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y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-arranging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the same thing to both sides to obtain the variable on its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+2 = x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=&gt; y-2 = x-2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=&gt; y = x-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EB89-BD07-42E7-8CB6-1640574CF08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528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y = x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2y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     2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=&gt; y = </a:t>
            </a:r>
            <a:r>
              <a:rPr b="0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 2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9D4F-0131-4CF1-9E11-401233F5F9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 - 3 = x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y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p + 4 =q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q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22960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 + 2 = 2x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y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38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y -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= x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y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38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2y - 1 = x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y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08:36Z</dcterms:created>
  <dc:creator>IKES</dc:creator>
  <dc:description/>
  <dc:language>en-US</dc:language>
  <cp:lastModifiedBy>IKES</cp:lastModifiedBy>
  <dcterms:modified xsi:type="dcterms:W3CDTF">2016-02-22T17:20:48Z</dcterms:modified>
  <cp:revision>93</cp:revision>
  <dc:subject/>
  <dc:title>U4</dc:title>
</cp:coreProperties>
</file>