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7D4-ED6E-468D-AE85-E87BA418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505-FBDC-40D0-89FF-FC9655A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D63-7575-4136-9F59-A85E3135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0BD-07EC-48BF-AB34-940CAA59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9A3-63DE-468A-A442-CC2CB8D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D1A-D13A-4C20-83B9-D4BE78B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402-A9D1-4E47-A91A-DD2589B0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62D-4A8E-47FC-9E06-B20A8728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696-623F-4640-B68A-D32F469B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1E5-8B30-405D-8887-C0AB943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9CD-8905-4534-8001-F94C6AD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909-B59B-4EA1-A1F4-DDAB49E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BB6-B7DD-4C4A-8EA5-2D319DB3F7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7631-1235-4E1F-A59C-554DF2DE80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.9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13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1.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5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.3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0.8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5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8.7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9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6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 = 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.84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CE90-FDC2-4042-85B1-431318B774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.1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4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2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4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3.7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1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4.3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7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6.2 </a:t>
            </a: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2-06T12:27:56Z</dcterms:modified>
  <cp:revision>90</cp:revision>
  <dc:subject/>
  <dc:title>U4</dc:title>
</cp:coreProperties>
</file>