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01D-AE6D-46AF-A605-3EF6CEAA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1D8-CDB4-4384-BF46-41341DA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4FD-37AF-43B5-9E69-A6B775E6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D0-A242-4E20-8E94-DDA4F77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9AC-62F5-481E-9404-0C297A4F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FCF-5505-4ABA-8CF8-EB4E0D7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63B-5044-4736-9CD8-B75FD33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746-D793-468C-BBED-F425FA8E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DA8-3F57-491A-AF2A-135EC2D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BD5-5F72-485C-BD1A-AB13F3D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025-34EE-4F40-859B-95C8F93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407-604E-4408-96E5-5D3B6CD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5B7-704A-4F3A-A09C-3F8DDF97F6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B7C-948C-408E-95CA-FA33524307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5.9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7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8.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6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5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0.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4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5.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.7 × 4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3 × 4 = 1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1.07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E8E8-3ADC-439F-96F2-476E49D071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8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5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8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6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1-27T10:18:29Z</dcterms:modified>
  <cp:revision>89</cp:revision>
  <dc:subject/>
  <dc:title>U4</dc:title>
</cp:coreProperties>
</file>