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E55C-403B-4546-85F1-C67EEDDD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F3C4-CB1A-437F-9A04-533953C2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50D-38CC-496F-A8D5-8FA83E95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9ED-4A36-479B-95B2-A14093DE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893-4F8E-4397-BAD1-13420A09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9D1C-28DF-474F-8737-A7E13343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7086-84FC-418B-AAAC-BC2D3E60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84D5-D56A-439A-8065-1A83E6CD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F8A8-E141-4F60-83B3-E37395FE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D955-83EF-468C-B409-B433C7F4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15AB-8531-46AB-8686-2A9BE7B8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8E2A-55EF-436D-8A6B-AD66431A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FEE0-F5DF-4BFB-9446-35B7A31EDC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42CE-ADBE-45B3-9B85-02499F3040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Approximations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6.2 + 9.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5.9 + 7.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.4 - 6.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9.7 - 0.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7.9 - 2.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7.2 - 2.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5.3 - 6.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7.8 - 14.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5.8 - 3.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3.7 - 9.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nding of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are rounded when extra figures are not needed or just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less than 5 are rounded dow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4.3 becomes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that are 5 or more are rounded u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4.5 becomes 5,    4.8 becomes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useful for making approxim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B5C1-EF93-4086-A7A8-4C1D821524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2.7 + 4.1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=&gt; 3 + 4 = 7</a:t>
            </a:r>
            <a:br>
              <a:rPr sz="9600"/>
            </a:b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(6.8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.7 × 4.1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=&gt; 3 × 4 = 12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11.07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78DD-4A79-4787-B71B-CE387258E9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4.3 + 8.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6.4 + 5.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9.2 + 3.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2.7 + 9.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4.3 + 8.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5-11-21T11:50:25Z</dcterms:modified>
  <cp:revision>88</cp:revision>
  <dc:subject/>
  <dc:title>U4</dc:title>
</cp:coreProperties>
</file>