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5B1F-078A-43DB-AFC0-C0E2316A5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624F-E4B8-405B-9D05-E2E26A6B8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9A3D-64D8-411A-8DFD-CC997A0C6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6B20-0C76-45E7-B14F-CBF609452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D979-0612-4C88-BE84-30898DE99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B133-8389-4DC4-ACAD-70F768491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1EA5-25AD-418F-B9F5-F6F7F3E2C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EB26-23D0-443F-ACCB-FED228A80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5855-76FE-4099-B354-77D3BD2E4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0C0A-98A6-4217-BEEE-78A8D74E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21C0-A4F8-4940-8A3D-8EE67B53C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4CA6-0011-430B-BAF6-F5311B89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CC259-8FA8-4E12-9883-1ED0ED3FBC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28760" cy="125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wmf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Verdana"/>
              </a:rPr>
              <a:t>ELEC1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REVISION NOTES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28760" cy="1254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ED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211640" y="1628640"/>
            <a:ext cx="43927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d the voltage across 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e the maximum current through the L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culate 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oose the next largest preferred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3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68360" y="1700280"/>
          <a:ext cx="3924360" cy="3414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700280"/>
                    <a:ext cx="3924360" cy="34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Zener Diodes 1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00360" y="2565000"/>
            <a:ext cx="44132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culate the maximum curr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culate the voltage across 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culate 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oose the next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arges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referred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24000" y="2637000"/>
          <a:ext cx="4105080" cy="347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2637000"/>
                    <a:ext cx="4105080" cy="34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0" y="1484280"/>
            <a:ext cx="914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this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method if the maximum power of the zener diode is gi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Zener Diodes 2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211640" y="2060640"/>
            <a:ext cx="470232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alculate the maximum current through R (remember the zener current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alculate the voltage across 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alculate 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oose the next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smallest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preferred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50920" y="2852640"/>
          <a:ext cx="4105080" cy="347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2852640"/>
                    <a:ext cx="4105080" cy="34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250920" y="1268280"/>
            <a:ext cx="85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method if the output details of the power supply are gi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58560" y="27432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Resistive Input Devic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787640" y="1413000"/>
            <a:ext cx="41050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D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Verdana"/>
              </a:rPr>
              <a:t>as light level increases, the resistance decrea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Verdana"/>
              </a:rPr>
              <a:t>Log-log graph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hermist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Verdana"/>
              </a:rPr>
              <a:t>As the temperature increases, the resistance decrea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Verdana"/>
              </a:rPr>
              <a:t>Log-lin graph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23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0" y="1628640"/>
          <a:ext cx="5292720" cy="2259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628640"/>
                    <a:ext cx="5292720" cy="22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0" y="23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0" y="4221000"/>
          <a:ext cx="4932360" cy="2259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4221000"/>
                    <a:ext cx="4932360" cy="22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Voltage Divider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42920" y="4508280"/>
            <a:ext cx="40546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This formula is not on the data sheet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0" y="1628640"/>
          <a:ext cx="4572000" cy="3773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628640"/>
                    <a:ext cx="4572000" cy="37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4427640" y="2205000"/>
                <a:ext cx="4249800" cy="16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58560" y="333360"/>
            <a:ext cx="7667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ransistors and MOSFET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8360" y="5157360"/>
            <a:ext cx="3096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332000" y="1197000"/>
          <a:ext cx="6769080" cy="2451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32000" y="1197000"/>
                    <a:ext cx="6769080" cy="24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-39672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116000" y="3933720"/>
          <a:ext cx="6985080" cy="2595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116000" y="3933720"/>
                    <a:ext cx="6985080" cy="25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utput devic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3640" y="4436640"/>
            <a:ext cx="837396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protection diode with inductive devi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remove large induced volt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ode protects semiconductor when the device is switched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324000" y="1125360"/>
          <a:ext cx="4897440" cy="3144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125360"/>
                    <a:ext cx="4897440" cy="31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5580000" y="1700280"/>
            <a:ext cx="30592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leno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perational Amplifier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067280" y="1557000"/>
            <a:ext cx="47592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fferential amplifi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rge input resistan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rge open-loop voltag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ain, A,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w output resistan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0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quency compensat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ain-bandwidth produ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0" y="1916280"/>
          <a:ext cx="4321080" cy="2722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916280"/>
                    <a:ext cx="4321080" cy="27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1979640" y="5373720"/>
                <a:ext cx="511164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omparator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732360" y="5084640"/>
            <a:ext cx="196524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0" y="1341360"/>
          <a:ext cx="5292720" cy="3984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341360"/>
                    <a:ext cx="5292720" cy="398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4643280" y="2565360"/>
                <a:ext cx="4248360" cy="13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eqAr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Boolean Algebr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50440" y="155736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tative Law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+ B = B + A               A · B = B · A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sociative Law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+ (B + C) = (A + B) + C      A ·(B · C) = (A · B) · C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tributive Law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· (B + C) = A · B + A · 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 Morgan's theor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21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763640" y="5084640"/>
                <a:ext cx="194328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t xml:space="preserve">+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4788000" y="5084640"/>
                <a:ext cx="1873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ba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t xml:space="preserve">⋅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ystem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36446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lex systems broken down into sub-system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sub-systems in circuit diagram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619280" y="1268280"/>
          <a:ext cx="6192720" cy="2291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19280" y="1268280"/>
                    <a:ext cx="6192720" cy="22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Boolean Identiti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50920" y="1267920"/>
            <a:ext cx="4824360" cy="47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Karnaugh Ma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26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1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395280" y="1268280"/>
                <a:ext cx="2201760" cy="532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  <m:e>
                        <m:bar>
                          <m:barPr>
                            <m:pos m:val="top"/>
                          </m:barPr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A</m:t>
                                </m:r>
                              </m:e>
                            </m:bar>
                          </m:e>
                        </m:ba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9" name=""/>
          <p:cNvSpPr/>
          <p:nvPr/>
        </p:nvSpPr>
        <p:spPr>
          <a:xfrm>
            <a:off x="0" y="27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3564000" y="1989000"/>
          <a:ext cx="4608360" cy="413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64000" y="1989000"/>
                    <a:ext cx="4608360" cy="413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ogic Gat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4292640"/>
            <a:ext cx="83520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, AND, OR, NAND, NOR, EX-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uth tables – every combination of inpu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611280" y="1341360"/>
          <a:ext cx="3819600" cy="1247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1341360"/>
                    <a:ext cx="3819600" cy="12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0" y="279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5003640" y="1341360"/>
          <a:ext cx="3810240" cy="1266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003640" y="1341360"/>
                    <a:ext cx="3810240" cy="12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116000" y="2781360"/>
          <a:ext cx="3191040" cy="799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16000" y="2781360"/>
                    <a:ext cx="319104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0" y="279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932360" y="2637000"/>
          <a:ext cx="3886200" cy="12668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932360" y="2637000"/>
                    <a:ext cx="3886200" cy="12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Boolean Algebr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16720" y="3933360"/>
            <a:ext cx="182088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1116000" y="1268280"/>
                <a:ext cx="2190600" cy="530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  <m:e>
                        <m:bar>
                          <m:barPr>
                            <m:pos m:val="top"/>
                          </m:barPr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A</m:t>
                                </m:r>
                              </m:e>
                            </m:bar>
                          </m:e>
                        </m:ba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Prefix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giga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×1,000,000,000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G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GHz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ega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×1,000,000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M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Hz, 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kil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×1,000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k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kHz, k, k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lli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×0.001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m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V, mA, m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cr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×0.000 001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V,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,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W,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an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×0.000 000 001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n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ic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×0.000 000 000 001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p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F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Voltage and Curren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ltage ACROSS object – Vo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rrent THROUGH object – Am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wer = Voltage x Current – Wat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istance = Voltage/Current - Oh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"/>
          <p:cNvSpPr/>
          <p:nvPr/>
        </p:nvSpPr>
        <p:spPr>
          <a:xfrm>
            <a:off x="0" y="27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2843280" y="4365720"/>
          <a:ext cx="2143080" cy="1419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43280" y="4365720"/>
                    <a:ext cx="2143080" cy="14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eries and Paralle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ries:-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Current is the sa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Voltage is sha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allel:-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Current is sha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Voltage is the sa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771640" y="1395360"/>
          <a:ext cx="6372360" cy="1023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71640" y="1395360"/>
                    <a:ext cx="6372360" cy="10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727520" y="3932280"/>
          <a:ext cx="4297320" cy="1957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27520" y="3932280"/>
                    <a:ext cx="4297320" cy="19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Resistor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series –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parallel –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our Co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S1852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ferred valu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ler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348000" y="1557360"/>
                <a:ext cx="32400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3708360" y="2421000"/>
                <a:ext cx="2232000" cy="100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od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9640" y="5371920"/>
            <a:ext cx="82296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ventional current flow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ows current to pass in one dire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.7V across a forward biased silicon dio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476360" y="1125360"/>
          <a:ext cx="6767640" cy="101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6360" y="1125360"/>
                    <a:ext cx="676764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81160" y="2201760"/>
          <a:ext cx="8472240" cy="3176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1160" y="2201760"/>
                    <a:ext cx="8472240" cy="31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30T09:08:36Z</dcterms:created>
  <dc:creator>IKES</dc:creator>
  <dc:description/>
  <dc:language>en-US</dc:language>
  <cp:lastModifiedBy>IKES</cp:lastModifiedBy>
  <dcterms:modified xsi:type="dcterms:W3CDTF">2011-04-09T10:13:48Z</dcterms:modified>
  <cp:revision>54</cp:revision>
  <dc:subject/>
  <dc:title>ELE2</dc:title>
</cp:coreProperties>
</file>