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DF7-1B0C-4B12-AA72-49C8B431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05D-0032-463D-BEF2-DCB96E42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A16-951F-4F11-90EF-6081D6D2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ABB-583C-4EFE-B52A-74681EDD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D4E-E6A4-4E13-AE3E-E877F692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3D1-7F03-41C4-B0CA-66D983A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FA3-AD9F-4BAE-B3A5-6180276B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E2E-9DFD-4EC8-A66C-DE358BA0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657-90AB-42E6-B726-056E77B1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183-33DF-4132-A7F3-A1613D71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84A-A5D0-4A06-9721-9033227E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134-C8BE-4E48-AE55-9E069DE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2089-468C-4187-93A2-2E7C7822D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E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o-n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9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up-cou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ate output connected to re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ate inputs connected to appropriat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052640"/>
          <a:ext cx="7451640" cy="331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74516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tative La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+ B = B + A               A · B = B ·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ociative La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+ (B + C) = (A + B) + C      A ·(B · C) = (A · B) ·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tive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· (B + C) = A · B + A ·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Morgan's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050920" y="4437000"/>
                <a:ext cx="1943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859280" y="4437000"/>
                <a:ext cx="1873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Id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50920" y="1267920"/>
            <a:ext cx="482436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rnaugh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95280" y="1268280"/>
                <a:ext cx="2201760" cy="53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564000" y="1989000"/>
          <a:ext cx="4608360" cy="41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1989000"/>
                    <a:ext cx="4608360" cy="41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stable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95280" y="1197000"/>
            <a:ext cx="475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ET input is briefly taken to logic 0,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utput will become logic 1 and the    output will become logic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RESET input is now briefly taken to logic 0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come logic 0 and the    will become logic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04960"/>
            <a:ext cx="9144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268280"/>
          <a:ext cx="3816360" cy="30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268280"/>
                    <a:ext cx="38163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940360" y="2276640"/>
                <a:ext cx="3556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724360" y="4149720"/>
                <a:ext cx="355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D Gate Mon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4000" y="3573000"/>
            <a:ext cx="8820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input of gate X goes low the output of gate X goes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tarts to charge capacitor C through resistor R and so makes the input of gate Y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of gate Y goes low, which is fed back to gate X so keeping its output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charges through R until the input voltage to gate Y is below half of the supply vol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of gate Y goes high, making output of gate X low, circuit res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1915200"/>
            <a:ext cx="28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197000"/>
          <a:ext cx="5795640" cy="22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579564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D Gate A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640" y="3573000"/>
            <a:ext cx="856908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 input to first NAND gate goes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of first NAND gate goes low, output of astable goes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or discharges and charges in opposite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il voltage at input to first NAND gate &lt;+Vs/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of astable switches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or charges in opposite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 repeats as long as control is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1640" y="1844640"/>
            <a:ext cx="349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765000"/>
          <a:ext cx="5113440" cy="26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765000"/>
                    <a:ext cx="5113440" cy="26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92280" y="1628640"/>
            <a:ext cx="17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R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=1/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-Type Flip-Fl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" y="4005360"/>
            <a:ext cx="821844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1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se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0.  Not dependent on the state of the clock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he rising edge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set to the logic state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58920" y="1341360"/>
          <a:ext cx="5400720" cy="23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341360"/>
                    <a:ext cx="54007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19280" y="1341000"/>
            <a:ext cx="519084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to be stored in the latch is set up on inpu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data is steady, a short pulse is applied to the clock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is stored in the latch on the rising edge of the clock pu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052640"/>
          <a:ext cx="334152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334152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4920" y="3645000"/>
            <a:ext cx="84978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rising edge of each clock pulse, the data from a D-type flip-flop is stored in the next D-type flip-f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ata transfer occurs all of the way along the shift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the output of the last flip-flop is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data applied to the input of the first flip-flop is taken into the shift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052640"/>
          <a:ext cx="725940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7259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y 2 Cou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4365720"/>
            <a:ext cx="82184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put is then always opposite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so toggling occurs on each successive clock pu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63640" y="1773360"/>
            <a:ext cx="3421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make a flip-flop togg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Set and Reset are connected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conn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413000"/>
          <a:ext cx="5329080" cy="23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532908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532720" y="3716280"/>
                <a:ext cx="35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bit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393372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Resets joined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previou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unter and     for 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resets joined together and connected to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52640"/>
          <a:ext cx="7885080" cy="27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788508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47640" y="3860640"/>
                <a:ext cx="409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20000" y="4724280"/>
                <a:ext cx="409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06-05-07T11:53:56Z</dcterms:modified>
  <cp:revision>33</cp:revision>
  <dc:subject/>
  <dc:title>ELE2</dc:title>
</cp:coreProperties>
</file>