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062-AC2A-4C89-879E-D9151B7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660-A2AB-4140-876A-A47FB18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279-DF2C-466A-BBF4-AAD15996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E7C-A0D1-445D-8DA1-2BDB53BB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565-3DCD-4CA2-84C2-8FEC996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12D-0D9E-479C-A70A-C2D11CC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BA1-11D7-401E-BF0E-CE5C2939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49E-2DA3-4B6C-9E87-634AF25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AF5-11E1-445D-A9AE-5C5BE5B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EB0-CEAE-4902-B03E-83AF827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F1C-5FDC-443B-9195-A460539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A8B-5754-4E4F-B6D2-81D6A71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716-F91C-4B0D-B784-A8448B4DC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ass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low frequency signals to pass, attenuates high frequenc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3240" y="1265400"/>
          <a:ext cx="4075200" cy="19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265400"/>
                    <a:ext cx="40752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282840"/>
          <a:ext cx="444816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82840"/>
                    <a:ext cx="44481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435640" y="3933720"/>
                <a:ext cx="2087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ass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high frequency signals to pass, attenuates low frequenc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64000" y="3789360"/>
                <a:ext cx="27003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-4680" y="1120680"/>
          <a:ext cx="494172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1120680"/>
                    <a:ext cx="49417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3857760"/>
          <a:ext cx="4572000" cy="27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57760"/>
                    <a:ext cx="45720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LE2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circuit diagrams – circle and name sub-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-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5084640"/>
                <a:ext cx="51120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art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/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resistance 1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916280"/>
          <a:ext cx="4392720" cy="22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927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7720" y="4508640"/>
                <a:ext cx="343692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 by multipl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of each input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s the same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er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DAC &amp; 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2205000"/>
          <a:ext cx="3960720" cy="24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9607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63640" y="4797360"/>
                <a:ext cx="590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input resistor to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gain/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oltage gai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follower whe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700280"/>
          <a:ext cx="421164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42116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43280" y="4724280"/>
                <a:ext cx="35989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4581360"/>
                <a:ext cx="431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Fol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tage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7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voltage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o subtract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-channel and p-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628640"/>
          <a:ext cx="4176720" cy="26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41767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ower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op-amp to provid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over distortion at low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MOSFETs into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 at high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supply voltage or reduc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557360"/>
          <a:ext cx="42116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42116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41360"/>
          <a:ext cx="4932360" cy="28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932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63640" y="4437000"/>
                <a:ext cx="1881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 reac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ance – the opposition to the flow of alternating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in o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or reactance decreases with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4508640"/>
                <a:ext cx="25927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28640"/>
          <a:ext cx="4535640" cy="23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356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03T21:26:58Z</dcterms:modified>
  <cp:revision>21</cp:revision>
  <dc:subject/>
  <dc:title>ELE2</dc:title>
</cp:coreProperties>
</file>