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31.wmf" ContentType="image/x-wmf"/>
  <Override PartName="/ppt/media/image29.wmf" ContentType="image/x-wmf"/>
  <Override PartName="/ppt/media/image11.wmf" ContentType="image/x-wmf"/>
  <Override PartName="/ppt/media/image6.wmf" ContentType="image/x-wmf"/>
  <Override PartName="/ppt/media/image36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3.wmf" ContentType="image/x-wmf"/>
  <Override PartName="/ppt/media/image8.wmf" ContentType="image/x-wmf"/>
  <Override PartName="/ppt/media/image38.wmf" ContentType="image/x-wmf"/>
  <Override PartName="/ppt/media/image9.wmf" ContentType="image/x-wmf"/>
  <Override PartName="/ppt/media/image39.wmf" ContentType="image/x-wmf"/>
  <Override PartName="/ppt/media/image30.wmf" ContentType="image/x-wmf"/>
  <Override PartName="/ppt/media/image28.wmf" ContentType="image/x-wmf"/>
  <Override PartName="/ppt/media/image10.wmf" ContentType="image/x-wmf"/>
  <Override PartName="/ppt/media/image5.wmf" ContentType="image/x-wmf"/>
  <Override PartName="/ppt/media/image35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media/image32.wmf" ContentType="image/x-wmf"/>
  <Override PartName="/ppt/media/image2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1.jpeg" ContentType="image/jpeg"/>
  <Override PartName="/ppt/media/image15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BC77-4EF6-4AF7-82CD-0FA8A4B2D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B5260-2751-4645-93BD-B9DB0CB5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516A-45A3-4CF6-999D-ADE7BED35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4DCD2-2B61-4175-9273-E728457DA7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C445-D700-4F2C-A46B-EB716A519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3C116-091A-4FFC-8259-98508735B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E188-F2E1-45FD-B58F-612857E5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185D1-5D65-4147-B12B-8D3AC8638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C14F2-51D0-459B-AC48-469ADF8E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8AE6-DB65-4261-8F3C-75A0B5CA4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A394-E4F3-4584-AED7-4EC04DC62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7AB38-951B-463E-9E62-BA0B76A760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5298C-FF36-44A8-8C13-83C8A567C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2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5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6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17.wmf"/><Relationship Id="rId1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1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2.wmf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3.wmf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4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5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6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8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9.wmf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0.wmf"/><Relationship Id="rId4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1.wmf"/><Relationship Id="rId4" Type="http://schemas.openxmlformats.org/officeDocument/2006/relationships/slideLayout" Target="../slideLayouts/slideLayout4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2.wmf"/><Relationship Id="rId4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4.wmf"/><Relationship Id="rId4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5.wmf"/><Relationship Id="rId4" Type="http://schemas.openxmlformats.org/officeDocument/2006/relationships/slideLayout" Target="../slideLayouts/slideLayout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8.wmf"/><Relationship Id="rId4" Type="http://schemas.openxmlformats.org/officeDocument/2006/relationships/slideLayout" Target="../slideLayouts/slideLayout4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9.wmf"/><Relationship Id="rId4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ELEC5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OMMUNICATIONS 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lnSpc>
                <a:spcPct val="8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REVISION NOT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92461-BB0E-4AEF-AF26-F2978D1DD2E6}" type="slidenum">
              <a:t>1</a:t>
            </a:fld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apacitor reactanc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594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Reactance – the opposition to the flow of alternating curren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easured in ohm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apacitor reactance decreases with frequency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1558800" y="4465800"/>
                <a:ext cx="2592360" cy="1454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X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f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2" name=""/>
          <p:cNvSpPr/>
          <p:nvPr/>
        </p:nvSpPr>
        <p:spPr>
          <a:xfrm>
            <a:off x="0" y="276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0" y="1628640"/>
          <a:ext cx="4535640" cy="2303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4535640" cy="230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EBD4C-5D6C-43D5-9A89-0845C7A7BCCE}" type="slidenum">
              <a:t>10</a:t>
            </a:fld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Low pass filt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594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s low frequency signals to pass, attenuates high frequency sign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reak point 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= 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-3240" y="1265400"/>
          <a:ext cx="4075200" cy="1942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3240" y="1265400"/>
                    <a:ext cx="4075200" cy="194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1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2" name=""/>
          <p:cNvGraphicFramePr/>
          <p:nvPr/>
        </p:nvGraphicFramePr>
        <p:xfrm>
          <a:off x="0" y="3282840"/>
          <a:ext cx="4448160" cy="2643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9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282840"/>
                    <a:ext cx="4448160" cy="264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5435640" y="3933720"/>
                <a:ext cx="208764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243A-E9E9-4917-86CC-740905B3EFE7}" type="slidenum">
              <a:t>11</a:t>
            </a:fld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High pass filt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5948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Allows high frequency signals to pass, attenuates low frequency sign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Break point  X</a:t>
            </a:r>
            <a:r>
              <a:rPr b="0" lang="en-GB" sz="24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 = 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5375160" y="3746520"/>
                <a:ext cx="270036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rPr>
                            <m:lit/>
                            <m:nor/>
                          </m:rPr>
                          <m:t xml:space="preserve">RC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0" name=""/>
          <p:cNvSpPr/>
          <p:nvPr/>
        </p:nvSpPr>
        <p:spPr>
          <a:xfrm>
            <a:off x="0" y="2600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1" name=""/>
          <p:cNvGraphicFramePr/>
          <p:nvPr/>
        </p:nvGraphicFramePr>
        <p:xfrm>
          <a:off x="-4680" y="1120680"/>
          <a:ext cx="4941720" cy="25941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-4680" y="1120680"/>
                    <a:ext cx="4941720" cy="259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" name=""/>
          <p:cNvSpPr/>
          <p:nvPr/>
        </p:nvSpPr>
        <p:spPr>
          <a:xfrm>
            <a:off x="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0" y="3857760"/>
          <a:ext cx="4572000" cy="2759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0" y="3857760"/>
                    <a:ext cx="4572000" cy="2759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41E24-21F9-409A-AFEF-D5F49ED28552}" type="slidenum">
              <a:t>12</a:t>
            </a:fld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Active filter circui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68000" y="5516640"/>
            <a:ext cx="115092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250920" y="1413000"/>
          <a:ext cx="3109680" cy="1939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413000"/>
                    <a:ext cx="3109680" cy="1939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1" name=""/>
          <p:cNvSpPr/>
          <p:nvPr/>
        </p:nvSpPr>
        <p:spPr>
          <a:xfrm>
            <a:off x="-252360" y="2565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2281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5796000" y="1197000"/>
          <a:ext cx="3105000" cy="24242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796000" y="1197000"/>
                    <a:ext cx="3105000" cy="242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5" name=""/>
          <p:cNvSpPr/>
          <p:nvPr/>
        </p:nvSpPr>
        <p:spPr>
          <a:xfrm>
            <a:off x="0" y="2492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6" name=""/>
          <p:cNvGraphicFramePr/>
          <p:nvPr/>
        </p:nvGraphicFramePr>
        <p:xfrm>
          <a:off x="250920" y="4581360"/>
          <a:ext cx="3114720" cy="19591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50920" y="4581360"/>
                    <a:ext cx="3114720" cy="195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0" y="2276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9" name=""/>
          <p:cNvGraphicFramePr/>
          <p:nvPr/>
        </p:nvGraphicFramePr>
        <p:xfrm>
          <a:off x="5724360" y="4443480"/>
          <a:ext cx="3105360" cy="203652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20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724360" y="4443480"/>
                    <a:ext cx="3105360" cy="2036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"/>
          <p:cNvSpPr/>
          <p:nvPr/>
        </p:nvSpPr>
        <p:spPr>
          <a:xfrm>
            <a:off x="0" y="2376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3059280" y="2533680"/>
          <a:ext cx="3124080" cy="23112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3059280" y="2533680"/>
                    <a:ext cx="3124080" cy="231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7F8D-326B-47D4-85F8-3415279A4594}" type="slidenum">
              <a:t>13</a:t>
            </a:fld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9144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Audio power amplifier 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23640" y="2420640"/>
            <a:ext cx="7993080" cy="416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The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 bandwidth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f an amplifier is defined as the range of frequencies within which 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ower G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oes not fall below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HALF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its maximum valu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ower = V</a:t>
            </a:r>
            <a:r>
              <a:rPr b="1" lang="en-GB" sz="20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/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the bandwidth of an amplifier also the range of frequencies within which the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Voltage Gain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does not fall below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70%,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(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1/√2)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of its maximum value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7" name=""/>
          <p:cNvGraphicFramePr/>
          <p:nvPr/>
        </p:nvGraphicFramePr>
        <p:xfrm>
          <a:off x="250920" y="1341360"/>
          <a:ext cx="4405320" cy="998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1341360"/>
                    <a:ext cx="4405320" cy="99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5003640" y="1378080"/>
          <a:ext cx="4140360" cy="1022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3640" y="1378080"/>
                    <a:ext cx="4140360" cy="102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2" name=""/>
          <p:cNvSpPr/>
          <p:nvPr/>
        </p:nvSpPr>
        <p:spPr>
          <a:xfrm>
            <a:off x="0" y="2448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403280" y="4149720"/>
          <a:ext cx="6121440" cy="2392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403280" y="4149720"/>
                    <a:ext cx="6121440" cy="2392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AF89-958F-4A84-A1FF-CDDB957CAA99}" type="slidenum">
              <a:t>14</a:t>
            </a:fld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Basic radio syste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68000" y="4652640"/>
            <a:ext cx="4824360" cy="143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414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8" name=""/>
          <p:cNvGraphicFramePr/>
          <p:nvPr/>
        </p:nvGraphicFramePr>
        <p:xfrm>
          <a:off x="1332000" y="1146240"/>
          <a:ext cx="6769080" cy="28843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332000" y="1146240"/>
                    <a:ext cx="6769080" cy="2884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0" name=""/>
          <p:cNvSpPr/>
          <p:nvPr/>
        </p:nvSpPr>
        <p:spPr>
          <a:xfrm>
            <a:off x="0" y="2724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395280" y="3789360"/>
          <a:ext cx="8115480" cy="2436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95280" y="3789360"/>
                    <a:ext cx="8115480" cy="24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E9AAB-E565-4439-A561-0540738E3D69}" type="slidenum">
              <a:t>15</a:t>
            </a:fld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8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mplitude Modulation (AM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270036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Frequency consta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mplitude vari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oadcast bandwidth is 9k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ng and medium wave band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"/>
          <p:cNvSpPr/>
          <p:nvPr/>
        </p:nvSpPr>
        <p:spPr>
          <a:xfrm>
            <a:off x="0" y="1400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700360" y="1324080"/>
          <a:ext cx="6443640" cy="553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700360" y="1324080"/>
                    <a:ext cx="6443640" cy="553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8" name=""/>
          <p:cNvSpPr/>
          <p:nvPr/>
        </p:nvSpPr>
        <p:spPr>
          <a:xfrm>
            <a:off x="0" y="545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81CCE-8A97-4DD3-9792-ED838FE19921}" type="slidenum">
              <a:t>16</a:t>
            </a:fld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requency Modulation (FM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2195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ant amplitu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arying frequ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Broadcast bandwidth is 100k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VHF wave ban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14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2" name=""/>
          <p:cNvGraphicFramePr/>
          <p:nvPr/>
        </p:nvGraphicFramePr>
        <p:xfrm>
          <a:off x="2124000" y="1125360"/>
          <a:ext cx="7020000" cy="5739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124000" y="1125360"/>
                    <a:ext cx="7020000" cy="5739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0A61F-DB2A-4D53-871E-88127FCC53D5}" type="slidenum">
              <a:t>17</a:t>
            </a:fld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gnal Bandwidth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23640" y="1699920"/>
            <a:ext cx="7189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3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0" y="2543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7" name=""/>
          <p:cNvGraphicFramePr/>
          <p:nvPr/>
        </p:nvGraphicFramePr>
        <p:xfrm>
          <a:off x="1619280" y="1125360"/>
          <a:ext cx="6335640" cy="2822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125360"/>
                    <a:ext cx="6335640" cy="2822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9" name=""/>
          <p:cNvGraphicFramePr/>
          <p:nvPr/>
        </p:nvGraphicFramePr>
        <p:xfrm>
          <a:off x="1671480" y="3713040"/>
          <a:ext cx="6772320" cy="31528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60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71480" y="3713040"/>
                    <a:ext cx="6772320" cy="31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BF2CF-36CD-40AA-A20C-4794B87CAF26}" type="slidenum">
              <a:t>18</a:t>
            </a:fld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DAB radi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0" y="1557360"/>
            <a:ext cx="91440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Digital Audio Broadcas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re efficient use of radio spectr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uning by station nam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nsmission of dat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217.5 – 230MH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ltiplexes – 2.3Mbi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ational multiplex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5</a:t>
            </a:r>
            <a:r>
              <a:rPr b="0" lang="en-GB" sz="2800" spc="-1" strike="noStrike" baseline="30000">
                <a:solidFill>
                  <a:srgbClr val="000000"/>
                </a:solidFill>
                <a:latin typeface="Verdana"/>
              </a:rPr>
              <a:t>+</a:t>
            </a: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 stations/multiplex – 32kb/s to 192kb/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Interleaved audio data over 360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0B0F-E03F-454D-B085-8141DB96E73C}" type="slidenum">
              <a:t>19</a:t>
            </a:fld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eneralised Syste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6021360"/>
            <a:ext cx="822960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0" y="2195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0" y="1628640"/>
          <a:ext cx="9144000" cy="3915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9144000" cy="39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E06C3-DFB7-4A21-9E3E-DF5661F07EFF}" type="slidenum">
              <a:t>2</a:t>
            </a:fld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619280" y="274320"/>
            <a:ext cx="7067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Simple Receiv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0" y="4723920"/>
            <a:ext cx="8624880" cy="187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erial/earth –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changes em waves into electrical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d circuit –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filters out required signa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dulator –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emoves bottom half of the AM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f filter –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emoves the remaining rf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utput – </a:t>
            </a: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ecovered information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2152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6" name=""/>
          <p:cNvGraphicFramePr/>
          <p:nvPr/>
        </p:nvGraphicFramePr>
        <p:xfrm>
          <a:off x="971640" y="404640"/>
          <a:ext cx="6505560" cy="4203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71640" y="404640"/>
                    <a:ext cx="6505560" cy="420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D5FD7-BE12-4508-83DE-B9488E45FE88}" type="slidenum">
              <a:t>20</a:t>
            </a:fld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uned Circui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-360" y="4436640"/>
            <a:ext cx="4716360" cy="16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Quality factor – Q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nance wh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207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L 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= X</a:t>
            </a:r>
            <a:r>
              <a:rPr b="1" lang="en-US" sz="3200" spc="-1" strike="noStrike" baseline="-25000">
                <a:solidFill>
                  <a:srgbClr val="000000"/>
                </a:solidFill>
                <a:latin typeface="Verdana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209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1206360" y="976320"/>
          <a:ext cx="7917120" cy="340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7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06360" y="976320"/>
                    <a:ext cx="7917120" cy="340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3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74" name=""/>
              <p:cNvSpPr txBox="1"/>
              <p:nvPr/>
            </p:nvSpPr>
            <p:spPr>
              <a:xfrm>
                <a:off x="5003640" y="4292640"/>
                <a:ext cx="3672000" cy="156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o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 = 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L</m:t>
                            </m:r>
                            <m:r>
                              <m:t xml:space="preserve"></m:t>
                            </m:r>
                            <m:r>
                              <m:t xml:space="preserve">C</m:t>
                            </m:r>
                          </m:e>
                        </m:rad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C6B20-8042-4DFE-BE47-A4E77820DF8C}" type="slidenum">
              <a:t>21</a:t>
            </a:fld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00000" y="274320"/>
            <a:ext cx="82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Simple Receiver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-Limitation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86979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selectivit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Only one tuned circui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Increase the number of tuned circui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ifficult to tune several tuned circuits togeth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or sensitivity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No amplification – uses energy received by the aeri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dd rf ampl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dd af ampl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49AF-9F93-4DD0-BD10-6A6C7D8B1E47}" type="slidenum">
              <a:t>22</a:t>
            </a:fld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Superhet Receiver - 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0" y="4581360"/>
            <a:ext cx="9144000" cy="172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incoming signals are mixed with the local oscillator signal and one of the resulting frequencies is the Intermediate frequency which is filtered and amplified by the if amplifie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2433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0" name=""/>
          <p:cNvGraphicFramePr/>
          <p:nvPr/>
        </p:nvGraphicFramePr>
        <p:xfrm>
          <a:off x="0" y="1341360"/>
          <a:ext cx="8893080" cy="3114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8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341360"/>
                    <a:ext cx="8893080" cy="311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C2B-E111-42EB-802E-C1F1646D0942}" type="slidenum">
              <a:t>23</a:t>
            </a:fld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187280" y="274320"/>
            <a:ext cx="79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Superhet Receiver -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f amplifier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Initial amplification and selection of signals from the ae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cal oscill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Produces difference frequency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ix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Combines local oscillator and radio signal to produce the intermediate frequency (if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f amplif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Contains many tuned circuits and amplifier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Provides most of the selectivity and sensitivity for the receiv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modulat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Extracts the information from the carrier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F amplifi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Amplifies the informatio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utomatic Gain Control (AGC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Verdana"/>
              </a:rPr>
              <a:t>Maintains a constant information output as the rf signal varies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F1DB8-B224-444E-968B-5C85779B0CCB}" type="slidenum">
              <a:t>24</a:t>
            </a:fld>
          </a:p>
        </p:txBody>
      </p:sp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he Superhet Receiver - 3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-360" y="1484280"/>
            <a:ext cx="869796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f frequencies: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AM receivers – 455k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VHF receivers – 10.7M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Analogue TVs – 39.5MHz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Verdana"/>
              </a:rPr>
              <a:t>s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+ f</a:t>
            </a:r>
            <a:r>
              <a:rPr b="0" lang="en-GB" sz="3200" spc="-1" strike="noStrike" baseline="-25000">
                <a:solidFill>
                  <a:srgbClr val="000000"/>
                </a:solidFill>
                <a:latin typeface="Verdana"/>
              </a:rPr>
              <a:t>o</a:t>
            </a: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 = if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f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Verdana"/>
              </a:rPr>
              <a:t>s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 = signal frequ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f</a:t>
            </a:r>
            <a:r>
              <a:rPr b="0" lang="en-GB" sz="2400" spc="-1" strike="noStrike" baseline="-25000">
                <a:solidFill>
                  <a:srgbClr val="0000ff"/>
                </a:solidFill>
                <a:latin typeface="Verdana"/>
              </a:rPr>
              <a:t>o</a:t>
            </a: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 = local oscillator frequ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-22392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if = Intermediate frequenc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199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Image respons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0B249-4365-4765-B9FF-603632F4687F}" type="slidenum">
              <a:t>25</a:t>
            </a:fld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283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ulse Amplitude Modul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-360" y="2276280"/>
            <a:ext cx="2484360" cy="361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nalogue voltage measured at regular time interval and the values transmitt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ample r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0" y="1268280"/>
            <a:ext cx="1944720" cy="64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A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0" name=""/>
          <p:cNvGraphicFramePr/>
          <p:nvPr/>
        </p:nvGraphicFramePr>
        <p:xfrm>
          <a:off x="2340000" y="1521000"/>
          <a:ext cx="6804000" cy="4701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340000" y="1521000"/>
                    <a:ext cx="6804000" cy="4701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81A07-9361-4B52-8AC9-ED10210D83CC}" type="slidenum">
              <a:t>26</a:t>
            </a:fld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76000" y="274320"/>
            <a:ext cx="7667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lse Width Modul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0" y="2205000"/>
            <a:ext cx="3348000" cy="279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nstant amplitude puls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Width of pulse indicates the magnitude of the analogue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0" y="1267920"/>
            <a:ext cx="21240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W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348000" y="1197000"/>
          <a:ext cx="5796000" cy="518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348000" y="1197000"/>
                    <a:ext cx="5796000" cy="518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2837E-2D1B-4DD1-BEDB-8E01D66BF974}" type="slidenum">
              <a:t>27</a:t>
            </a:fld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lse Position Modul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0" y="1988640"/>
            <a:ext cx="327672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ulses are of constant amplitude and dur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pulses are delayed at each sample by an amount that is dependent upon the amplitude of the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0" y="1268280"/>
            <a:ext cx="2843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P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3203640" y="1197000"/>
          <a:ext cx="5940360" cy="53100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1197000"/>
                    <a:ext cx="5940360" cy="5310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F2C3C-FF65-4D0E-ABBD-A9D13F07B9EE}" type="slidenum">
              <a:t>28</a:t>
            </a:fld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ulse Code Modul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0" y="2060640"/>
            <a:ext cx="3348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amplitude of the analogue signal is sampl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sample is then converted into a binary value by an AD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e binary value is transmitted in serial for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0" y="1268280"/>
            <a:ext cx="2433600" cy="72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C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976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6" name=""/>
          <p:cNvGraphicFramePr/>
          <p:nvPr/>
        </p:nvGraphicFramePr>
        <p:xfrm>
          <a:off x="3276720" y="1125360"/>
          <a:ext cx="5487840" cy="5732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125360"/>
                    <a:ext cx="5487840" cy="573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5465B-7F5B-4F37-AB3C-F2CF7E43200C}" type="slidenum">
              <a:t>29</a:t>
            </a:fld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4000" y="274320"/>
            <a:ext cx="8064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mission Med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oaxial C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68360" y="3499920"/>
            <a:ext cx="8229600" cy="335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uter conductor shields inner conduc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acteristic Impedance - 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/ 75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ion – 5dB/10km at 1GH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Cable resi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Leakage current between condu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adiation of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locity ratio = 0.6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0" y="1557360"/>
          <a:ext cx="9144000" cy="1562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57360"/>
                    <a:ext cx="9144000" cy="1562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5227C-19EF-44DC-ADD4-63BA779C2AC6}" type="slidenum">
              <a:t>3</a:t>
            </a:fld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Packet Switching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ore efficient use of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ata broken into blocks – packe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Ethernet – GPRS – Land line telephon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eader – Data – Checksu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cket switching network – Rou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Transmission by different path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ceiver assembles packets in or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Redundancy within packet switching networ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362FA-E2B9-4780-BC0C-C0E514A2E53C}" type="slidenum">
              <a:t>30</a:t>
            </a:fld>
          </a:p>
        </p:txBody>
      </p:sp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332000" y="274320"/>
            <a:ext cx="7812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rial Transmission - 1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-360" y="1268280"/>
            <a:ext cx="869796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rial v Parall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lf Dupl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One device transmits, the other receiv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Only one transmission medium is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ull Duplex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Both devices transmit and receive at the sam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Two transmission media are needed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ynchronous / Asynchronou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ndshak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TS  CT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A8080-AE5F-4014-889F-8B9371CB6396}" type="slidenum">
              <a:t>31</a:t>
            </a:fld>
          </a:p>
        </p:txBody>
      </p:sp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rial Transmission - 2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0" y="2060280"/>
            <a:ext cx="3276720" cy="64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65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(00100001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0" y="3789360"/>
            <a:ext cx="9144000" cy="273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rt b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op bit(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Parity b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aud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Bit ra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26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6" name=""/>
          <p:cNvGraphicFramePr/>
          <p:nvPr/>
        </p:nvGraphicFramePr>
        <p:xfrm>
          <a:off x="2843280" y="1341360"/>
          <a:ext cx="6300720" cy="238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1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843280" y="1341360"/>
                    <a:ext cx="6300720" cy="238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2BD1-60F7-41B5-B4DE-FC07738ED84A}" type="slidenum">
              <a:t>32</a:t>
            </a:fld>
          </a:p>
        </p:txBody>
      </p:sp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erial Transmission - 3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he Shift Register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-360" y="3933360"/>
            <a:ext cx="8893080" cy="24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n the rising edge of each clock pulse, the data from a D-type flip-flop is stored in the next D-type flip-flop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s data transfer occurs all of the way along the shift regis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ta from the output of the last flip-flop is lost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ew data applied to the input of the first flip-flop is taken into the shift register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iming diagram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2514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395280" y="1413000"/>
          <a:ext cx="7259760" cy="2481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1413000"/>
                    <a:ext cx="7259760" cy="2481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B1F2-3F62-47AE-A797-1127A4712379}" type="slidenum">
              <a:t>33</a:t>
            </a:fld>
          </a:p>
        </p:txBody>
      </p:sp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ultiplexe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-360" y="5300640"/>
            <a:ext cx="8697960" cy="15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ltiplexer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emultiplex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need a clock and a two bit counte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" name=""/>
          <p:cNvSpPr/>
          <p:nvPr/>
        </p:nvSpPr>
        <p:spPr>
          <a:xfrm>
            <a:off x="0" y="1747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8" name=""/>
          <p:cNvGraphicFramePr/>
          <p:nvPr/>
        </p:nvGraphicFramePr>
        <p:xfrm>
          <a:off x="0" y="1197000"/>
          <a:ext cx="4140360" cy="3992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2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197000"/>
                    <a:ext cx="4140360" cy="399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0" name=""/>
          <p:cNvSpPr/>
          <p:nvPr/>
        </p:nvSpPr>
        <p:spPr>
          <a:xfrm>
            <a:off x="0" y="1733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1" name=""/>
          <p:cNvGraphicFramePr/>
          <p:nvPr/>
        </p:nvGraphicFramePr>
        <p:xfrm>
          <a:off x="4500720" y="1197000"/>
          <a:ext cx="4643280" cy="4091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500720" y="1197000"/>
                    <a:ext cx="4643280" cy="4091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F3E2D-5B15-4E8A-9655-FCAAAE69C5FF}" type="slidenum">
              <a:t>34</a:t>
            </a:fld>
          </a:p>
        </p:txBody>
      </p:sp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ellular Communic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-360" y="1557000"/>
            <a:ext cx="3492360" cy="30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ry short communication by radio from mobile handset to base st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peat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generat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-360" y="4552560"/>
            <a:ext cx="8697960" cy="23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requency reu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ell size depends on the number of channels requi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parate up link and down link frequenci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GSM – 900MHz, DECT – 1.8GHz, 3G – 2GH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3276720" y="1125360"/>
          <a:ext cx="5592600" cy="3511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125360"/>
                    <a:ext cx="5592600" cy="3511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1D49B-4D2E-4624-B578-DBB8011CEF08}" type="slidenum">
              <a:t>35</a:t>
            </a:fld>
          </a:p>
        </p:txBody>
      </p:sp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403280" y="274320"/>
            <a:ext cx="7740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ibre Optic Communicatio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9144000" cy="144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ser diode transmitters  0.9 – 1.6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IN diode receiv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sp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0" y="4365360"/>
            <a:ext cx="9144000" cy="24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Internal Ref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Scattering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Absorp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adi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mpare with wired system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" name=""/>
          <p:cNvSpPr/>
          <p:nvPr/>
        </p:nvSpPr>
        <p:spPr>
          <a:xfrm>
            <a:off x="0" y="30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3" name=""/>
          <p:cNvGraphicFramePr/>
          <p:nvPr/>
        </p:nvGraphicFramePr>
        <p:xfrm>
          <a:off x="250920" y="2637000"/>
          <a:ext cx="8532720" cy="15159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24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0920" y="2637000"/>
                    <a:ext cx="8532720" cy="1515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05CE9-689F-40A6-B18F-45C65C26CEA5}" type="slidenum">
              <a:t>36</a:t>
            </a:fld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mission Med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wisted Pair Cab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68360" y="3068640"/>
            <a:ext cx="82296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ifferential sign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haracteristic Impedance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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10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ion – 2.2dB/10m at 100MH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Cable resistanc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Leakage current between conductor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adiation of signa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elocity ratio = 0.6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"/>
          <p:cNvSpPr/>
          <p:nvPr/>
        </p:nvSpPr>
        <p:spPr>
          <a:xfrm>
            <a:off x="0" y="3119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0" y="1773360"/>
          <a:ext cx="9144000" cy="1189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73360"/>
                    <a:ext cx="9144000" cy="118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EE0F-E417-4EAB-83B2-F5CB8FA36D6C}" type="slidenum">
              <a:t>4</a:t>
            </a:fld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mission Med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Free Spac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68360" y="4005360"/>
            <a:ext cx="8229600" cy="207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lectromagnetic waves  c=3x10</a:t>
            </a:r>
            <a:r>
              <a:rPr b="0" lang="en-US" sz="2800" spc="-1" strike="noStrike" baseline="30000">
                <a:solidFill>
                  <a:srgbClr val="000000"/>
                </a:solidFill>
                <a:latin typeface="Verdana"/>
              </a:rPr>
              <a:t>8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/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ion – 92.4dB/km at 1GH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=f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0" y="1557360"/>
          <a:ext cx="9144000" cy="24782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557360"/>
                    <a:ext cx="9144000" cy="2478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C9F46-861A-4931-91B3-CC01BA4C60ED}" type="slidenum">
              <a:t>5</a:t>
            </a:fld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Transmission Media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Optical Fibr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Internal Reflec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ttenuation – 3dB/km at 1GH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0" y="2747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0" y="1268280"/>
          <a:ext cx="9144000" cy="2487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268280"/>
                    <a:ext cx="9144000" cy="2487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C0C6-5785-40BA-BF45-5DC661B5B30F}" type="slidenum">
              <a:t>6</a:t>
            </a:fld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ultiplexing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nables more information to pass along a communications medium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requency Division Multiplex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nalogue and Digital Inform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eparate carrier frequency for each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ime Division Multiplex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igital Information only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Separate time slot for each sig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2CDB-F058-48B7-98A5-2CC5C27694BC}" type="slidenum">
              <a:t>7</a:t>
            </a:fld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gnal Degradation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1197000"/>
            <a:ext cx="822960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Attenua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Ohmic loss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Radiati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Interference from adjacent ca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spers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Different frequencies travel at different speed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Distor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Signals produced and added to a signal as a signal passes through a communications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No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ff"/>
                </a:solidFill>
                <a:latin typeface="Verdana"/>
              </a:rPr>
              <a:t>Random additional signals added to a signal as it passes through a communications syste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BDFCB-4925-422D-B7C1-21A7E03900CB}" type="slidenum">
              <a:t>8</a:t>
            </a:fld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ignal to Noise Ratio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68000" y="2781360"/>
            <a:ext cx="8280360" cy="23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e Decibel – logarithmic rati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dd together for each subsyste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mplification increases both the signal and the noi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395280" y="1484280"/>
                <a:ext cx="8353440" cy="1100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gnal to noise ratio = 10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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gnal power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oise power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8" name=""/>
              <p:cNvSpPr txBox="1"/>
              <p:nvPr/>
            </p:nvSpPr>
            <p:spPr>
              <a:xfrm>
                <a:off x="324000" y="4952880"/>
                <a:ext cx="8604000" cy="112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Signal to noise ratio = 20 </m:t>
                    </m:r>
                    <m:r>
                      <m:t xml:space="preserve"></m:t>
                    </m:r>
                    <m:r>
                      <m:rPr>
                        <m:lit/>
                        <m:nor/>
                      </m:rPr>
                      <m:t xml:space="preserve">log</m:t>
                    </m:r>
                    <m:r>
                      <m:t xml:space="preserve">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Signal voltage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Noise voltage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 dB</m:t>
                    </m:r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B9500-F298-4CD1-9FB9-D6D38DFDD382}" type="slidenum">
              <a:t>9</a:t>
            </a:fld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1-04-09T10:46:36Z</dcterms:modified>
  <cp:revision>83</cp:revision>
  <dc:subject/>
  <dc:title>ELE2</dc:title>
</cp:coreProperties>
</file>