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DA33D-509B-4E11-B297-D515F2AB3C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3037-50DD-4901-B57C-CBF274AC7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26AB5-E092-48E0-9059-15B57B98B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5080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33240" y="15573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6836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5080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33240" y="39214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7C58-1456-46E2-A379-2287443D70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24943-79E6-4D57-9CAE-F668C139A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1E9D-5FCC-4AE5-87A7-FD099B66C7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1453-0B57-4666-A16A-781B9AD7A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0E537-AC79-441C-8360-8D93A23AC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33E54-B7AE-4712-9B17-FDC75DE4F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5FF-4E5A-4647-9C32-3A71DA605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5400" y="39214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BEF51-8B75-44F3-B6B9-F5C026210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5400" y="15573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8360" y="39214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CE541-A3AA-4FB1-B3EE-AA0DF68CC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9C533-FAAB-4253-BFC6-F492FC098C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wmf"/><Relationship Id="rId4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3.wmf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7.wmf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8.wmf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Verdana"/>
              </a:rPr>
              <a:t>ELEC4</a:t>
            </a:r>
            <a:endParaRPr b="0" lang="en-US" sz="8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990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CONTROL SYSTEM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REVISION NOTES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328760" cy="12542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Assembler Mnemonic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80" name=""/>
          <p:cNvGraphicFramePr/>
          <p:nvPr/>
        </p:nvGraphicFramePr>
        <p:xfrm>
          <a:off x="900000" y="2133720"/>
          <a:ext cx="7417080" cy="4140000"/>
        </p:xfrm>
        <a:graphic>
          <a:graphicData uri="http://schemas.openxmlformats.org/drawingml/2006/table">
            <a:tbl>
              <a:tblPr/>
              <a:tblGrid>
                <a:gridCol w="3709440"/>
                <a:gridCol w="37076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L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T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IN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DD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ND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UB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R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XOR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M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PZ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JP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VWR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V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OVRW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Microcontroll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Clock 1 – 20MHz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8-bit bi-directional ports -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RT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RTB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ORT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data direction register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RISA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RISB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RIS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If a bit is set to 1 then the port bit is an input, if the bit is set to 0 then the port bit is an output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status register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for which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 0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the carry flag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 2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the zero flag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Z, 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d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is the timer flag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 clock prescaler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PRE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which can be set to divide the clock frequency by 2 to 256.</a:t>
            </a:r>
            <a:br>
              <a:rPr sz="2000"/>
            </a:b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an 8-bit timer register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TM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which is decremented on each falling edge of the clock prescaler pulse and which sets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bit 1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 of the status register, </a:t>
            </a:r>
            <a:r>
              <a:rPr b="1" lang="en-GB" sz="2000" spc="-1" strike="noStrike">
                <a:solidFill>
                  <a:srgbClr val="000000"/>
                </a:solidFill>
                <a:latin typeface="Verdana"/>
              </a:rPr>
              <a:t>SR</a:t>
            </a: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, when it is 0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42560" y="907920"/>
            <a:ext cx="770436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gital to Analogue Converter (DAC)</a:t>
            </a:r>
            <a:br>
              <a:rPr sz="4000"/>
            </a:b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7920000" cy="85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ually connected to data bus via a latc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324000" y="2162160"/>
            <a:ext cx="352728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6" name=""/>
          <p:cNvGraphicFramePr/>
          <p:nvPr/>
        </p:nvGraphicFramePr>
        <p:xfrm>
          <a:off x="3203640" y="1844640"/>
          <a:ext cx="5940360" cy="35514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8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03640" y="1844640"/>
                    <a:ext cx="5940360" cy="3551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8" name=""/>
          <p:cNvSpPr/>
          <p:nvPr/>
        </p:nvSpPr>
        <p:spPr>
          <a:xfrm>
            <a:off x="755640" y="2205000"/>
            <a:ext cx="259236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24000" y="2129760"/>
            <a:ext cx="3058920" cy="134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Rf,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6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2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4Rf, 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4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8R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6Rf,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32Rf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64Rf, R</a:t>
            </a:r>
            <a:r>
              <a:rPr b="1" lang="en-US" sz="18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= 128R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Verdana"/>
              </a:rPr>
              <a:t>Analogue to Digital Converter (ADC)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527280" cy="115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igital Ramp AD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0" y="2492280"/>
            <a:ext cx="403848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increments output from DAC until the analogue voltage is greater than the analogue input voltag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arator detects this and ACK is pulled low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"/>
          <p:cNvSpPr/>
          <p:nvPr/>
        </p:nvSpPr>
        <p:spPr>
          <a:xfrm>
            <a:off x="0" y="2119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35280" y="1268280"/>
          <a:ext cx="5508720" cy="3419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635280" y="1268280"/>
                    <a:ext cx="5508720" cy="341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6" name=""/>
          <p:cNvSpPr/>
          <p:nvPr/>
        </p:nvSpPr>
        <p:spPr>
          <a:xfrm>
            <a:off x="0" y="5634000"/>
            <a:ext cx="813600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omputer detects this and so the last number it   sent to the DAC is equivalent to the analogue input volt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4360" y="259920"/>
            <a:ext cx="496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lash ADC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4680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Very fast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any compar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-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Expensiv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s:-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Vide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ff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Digital oscilloscop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0" name=""/>
          <p:cNvGraphicFramePr/>
          <p:nvPr/>
        </p:nvGraphicFramePr>
        <p:xfrm>
          <a:off x="4735440" y="333360"/>
          <a:ext cx="4408560" cy="61657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735440" y="333360"/>
                    <a:ext cx="4408560" cy="61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Photodiod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348000" cy="208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member LED calculations often included in these question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0" y="3789360"/>
            <a:ext cx="9144000" cy="306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hotodiodes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an produce a small voltage – 0.6V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ften used in reverse bias mo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verse bias current proportional to incident ligh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Very fast response time (LDRs are very slow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3276720" y="1341360"/>
          <a:ext cx="5867280" cy="2202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276720" y="1341360"/>
                    <a:ext cx="5867280" cy="2202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Optical shaft encoder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3132000" cy="28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solution:-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360/2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n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deg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n=number of ring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360/S degre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S=number of slot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-360" y="4437000"/>
            <a:ext cx="8697960" cy="216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Optical Shaft Encode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ngular direction, speed and absolute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lotted Disk (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one sensor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Angular speed and relative posi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3095640" y="1125360"/>
          <a:ext cx="6048360" cy="3100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095640" y="1125360"/>
                    <a:ext cx="6048360" cy="310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618920" y="259920"/>
            <a:ext cx="6985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even segment displa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0" y="1557000"/>
            <a:ext cx="5796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even LEDs for segments plus one for the decimal poi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Combinations lit to display numbers and character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ff"/>
                </a:solidFill>
                <a:latin typeface="Verdana"/>
              </a:rPr>
              <a:t>Eg a, b, g, c, d for 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Standard calculations apply to each LED (segment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Multiplexed displ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CD display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7" name=""/>
          <p:cNvGraphicFramePr/>
          <p:nvPr/>
        </p:nvGraphicFramePr>
        <p:xfrm>
          <a:off x="6183360" y="1557360"/>
          <a:ext cx="2960640" cy="45370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183360" y="1557360"/>
                    <a:ext cx="2960640" cy="4537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402920" y="274320"/>
            <a:ext cx="5761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ot matrix displa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0" y="1341360"/>
            <a:ext cx="5580000" cy="474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ultiplexed displa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Only one column powered at any on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lies on persistence of vis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Can be dimmer than normal display since each column is only illuminated for 1/5</a:t>
            </a:r>
            <a:r>
              <a:rPr b="0" lang="en-US" sz="2400" spc="-1" strike="noStrike" baseline="30000">
                <a:solidFill>
                  <a:srgbClr val="0000ff"/>
                </a:solidFill>
                <a:latin typeface="Verdana"/>
              </a:rPr>
              <a:t>th</a:t>
            </a: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 of the tim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Ds to be lit are selected via the Row connections as each Column is powered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2" name=""/>
          <p:cNvGraphicFramePr/>
          <p:nvPr/>
        </p:nvGraphicFramePr>
        <p:xfrm>
          <a:off x="7035840" y="0"/>
          <a:ext cx="2117520" cy="28004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3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035840" y="0"/>
                    <a:ext cx="2117520" cy="2800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5654520" y="2852640"/>
          <a:ext cx="3489480" cy="40053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54520" y="2852640"/>
                    <a:ext cx="3489480" cy="400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tepper Moto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0" y="1267920"/>
            <a:ext cx="9144000" cy="25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Unipolar and bipola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Rotates through a precise ang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eds control electronics to continuously rotat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Current applied in turn to each set of coil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H-bridg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Less torque and  angular speed than traditional mot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23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0" name=""/>
          <p:cNvGraphicFramePr/>
          <p:nvPr/>
        </p:nvGraphicFramePr>
        <p:xfrm>
          <a:off x="684360" y="3930480"/>
          <a:ext cx="7704000" cy="2927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84360" y="3930480"/>
                    <a:ext cx="7704000" cy="292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8360" y="141264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pen Lo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No feedback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osed Loop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Feedba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Nega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Reduces the effect of the 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utput reaches an adjustable steady end poi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sitiv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Increases the effect of the inpu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Verdana"/>
              </a:rPr>
              <a:t>Output oscillates or saturat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"/>
          <p:cNvSpPr/>
          <p:nvPr/>
        </p:nvSpPr>
        <p:spPr>
          <a:xfrm>
            <a:off x="0" y="2800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Schmitt Trigg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-360" y="1267920"/>
            <a:ext cx="5219640" cy="558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wo switching poin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Hysteresi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Reduces false switching on noisy signal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sider as a comparator with a variable reference voltage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voltage at P when the output is high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is gives the upper switching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lculate the voltage at P when the output is low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Verdana"/>
              </a:rPr>
              <a:t>This gives the lower switching poin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5" name=""/>
          <p:cNvGraphicFramePr/>
          <p:nvPr/>
        </p:nvGraphicFramePr>
        <p:xfrm>
          <a:off x="5270400" y="1413000"/>
          <a:ext cx="3873600" cy="3959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270400" y="1413000"/>
                    <a:ext cx="3873600" cy="3959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H-Bridge driv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39640" y="4508640"/>
            <a:ext cx="822960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llows bidirectional control of curren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Note the use of p and n channel MOSFE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2529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1619280" y="1341360"/>
          <a:ext cx="6265800" cy="3183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19280" y="1341360"/>
                    <a:ext cx="6265800" cy="3183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Robotic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ens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ctuator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rol archit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Power sourc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Control algorith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AI and Neural Network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Social and economic impac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Verdana"/>
              </a:rPr>
              <a:t>Future development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Neural Network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Comparison with PC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NN processors very simple but very many used, traditional computer processors very complex but only a few use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NNs retain data in the weightings of the connections made, computers have dedicated memory component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NNs are trained - changing the weightings of the connections made with experience, computers follow a pre-described set of instruc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ff"/>
                </a:solidFill>
                <a:latin typeface="Verdana"/>
              </a:rPr>
              <a:t>NNs best at predictive tasks, computers better at calculation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NOTE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General system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4581360"/>
            <a:ext cx="8229600" cy="150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unting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ysteres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2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" name=""/>
          <p:cNvGraphicFramePr/>
          <p:nvPr/>
        </p:nvGraphicFramePr>
        <p:xfrm>
          <a:off x="0" y="1916280"/>
          <a:ext cx="9144000" cy="2354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916280"/>
                    <a:ext cx="9144000" cy="23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58560" y="274320"/>
            <a:ext cx="7427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Microprocessor system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68360" y="5589360"/>
            <a:ext cx="822960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"/>
          <p:cNvSpPr/>
          <p:nvPr/>
        </p:nvSpPr>
        <p:spPr>
          <a:xfrm>
            <a:off x="0" y="2467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0" y="1700280"/>
          <a:ext cx="9144000" cy="36068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700280"/>
                    <a:ext cx="9144000" cy="360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erminology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0" y="1268280"/>
            <a:ext cx="3672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A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OM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or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ock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ata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ddress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ontrol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500720" y="1197000"/>
            <a:ext cx="4016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emory Ma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/O Mapp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ea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ri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Volati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errup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Byt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Wor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Tristate buff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640" y="3789360"/>
            <a:ext cx="82296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Three states – 0, 1, open circu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Enables data to be put onto a data bus without causing ‘bus contentions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Output Enable (OE) often ‘active low’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One needed per bi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"/>
          <p:cNvSpPr/>
          <p:nvPr/>
        </p:nvSpPr>
        <p:spPr>
          <a:xfrm>
            <a:off x="0" y="2862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1258920" y="1125360"/>
          <a:ext cx="7885080" cy="26006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58920" y="1125360"/>
                    <a:ext cx="7885080" cy="2600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6491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ata Latch 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-360" y="1557360"/>
            <a:ext cx="5543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Enables data to be outputted from data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Processor sets valid data onto data bus and then pulses CK high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Data captured and stored in latch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One flip-flop needed per bit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0" y="824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" name=""/>
          <p:cNvGraphicFramePr/>
          <p:nvPr/>
        </p:nvGraphicFramePr>
        <p:xfrm>
          <a:off x="5416560" y="260280"/>
          <a:ext cx="3727440" cy="6237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416560" y="260280"/>
                    <a:ext cx="3727440" cy="623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42560" y="274320"/>
            <a:ext cx="76438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Verdana"/>
              </a:rPr>
              <a:t>System on a Chip (SoC)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IC/AV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ISC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arvard Architectur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Separate Instruction Bu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Cheap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Verdana"/>
              </a:rPr>
              <a:t>Adaptabl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Flow Chart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378936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Used to determine the sequence of operations require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ids logical though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0" y="1628640"/>
          <a:ext cx="9144000" cy="1855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0" y="1628640"/>
                    <a:ext cx="9144000" cy="1855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30T09:08:36Z</dcterms:created>
  <dc:creator>IKES</dc:creator>
  <dc:description/>
  <dc:language>en-US</dc:language>
  <cp:lastModifiedBy>IKES</cp:lastModifiedBy>
  <dcterms:modified xsi:type="dcterms:W3CDTF">2011-04-09T10:39:57Z</dcterms:modified>
  <cp:revision>64</cp:revision>
  <dc:subject/>
  <dc:title>ELE2</dc:title>
</cp:coreProperties>
</file>