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25F-03EA-429A-8870-5505E5B1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60A-E575-4649-A8F2-EE57D07E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2AC-69AC-4B71-8A92-7F737748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350-7446-4E9F-BFA2-EB09007F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586-4386-4150-A8C0-5D651D25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5A8-9679-424F-A9BE-B989AC6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D49-0DDE-497F-BE7D-2B4EA38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28B-DF6E-4C87-A6E2-8500C66E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BB1-470F-4680-A947-2223311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41A-844E-491F-8E25-0A28A09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E29-935A-4B44-923D-07F7164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6D2-44D0-45DF-A155-3E790120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7DC9-B2C5-449D-9FEE-E9A7CA72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5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MUNICATIONS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E18-5D91-42D8-A4C8-9F05CBE4A44E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mplitude Modulation (AM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27003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plitude v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bandwidth is 9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ng and medium wave b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00360" y="1324080"/>
          <a:ext cx="6443640" cy="55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324080"/>
                    <a:ext cx="644364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545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134-4AB2-4C5B-9A1D-1A66D4852570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requency Modulation (FM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21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ampli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ying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bandwidth is 100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HF wave b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24000" y="1125360"/>
          <a:ext cx="7020000" cy="573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125360"/>
                    <a:ext cx="7020000" cy="57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460-9A62-4BFD-8C7C-4F89DF08E370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Bandwidth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7189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19280" y="1125360"/>
          <a:ext cx="6335640" cy="282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125360"/>
                    <a:ext cx="633564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71480" y="3713040"/>
          <a:ext cx="6772320" cy="315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1480" y="3713040"/>
                    <a:ext cx="67723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5FC-DF6F-402E-8DE0-E77A95C79647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uned Circui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4436640"/>
            <a:ext cx="471636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factor –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ce w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L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06360" y="976320"/>
          <a:ext cx="7917120" cy="340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360" y="976320"/>
                    <a:ext cx="791712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003640" y="4292640"/>
                <a:ext cx="367200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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34B-4BA6-4CC5-8C36-DB7413B4B50C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imple Recei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8624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erial/earth – 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changes em waves into electrica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uned circuit – 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filters out required sign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modulator – 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removes bottom half of the AM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f filter – 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removes the remaining r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 – 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recovered information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404640"/>
          <a:ext cx="6505560" cy="42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04640"/>
                    <a:ext cx="650556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4E2-6857-4F9F-A091-30B7C86D05AB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imple Receiv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Limit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or selectiv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Only one tuned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Increase the number of tuned circu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Difficult to tune several tuned circuit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or sensitiv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No amplification – uses energy received by the a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dd r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dd a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BC8-C043-483F-9E0B-7FC1A3F87CA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coming signals are mixed with the local oscillator signal and one of the resulting frequencies is the Intermediate frequency which is filtered and amplified by the i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341360"/>
          <a:ext cx="8893080" cy="31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88930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D4A-6DD1-48FF-9E78-6672CC27A201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 amplif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itial amplification and selection of signals from the ae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oscil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Produces difference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Combines local oscillator and radio signal to produce the intermediate frequency (i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Contains many tuned circuits and amplifi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Provides most of the selectivity and sensitivity for the recei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d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xtracts the information from the carri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Amplifies th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 Gain Control (AG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Maintains a constant information output as the rf signal va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792-1B9F-47A9-B999-D61072D3EED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6979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f frequenc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M receivers – 455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VHF receivers – 10.7M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nalogue TVs – 39.5M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+ f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= i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f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Verdana"/>
              </a:rPr>
              <a:t>s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 = signal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f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 = local oscillator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if = Intermediate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age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EAC-F346-45CD-A5F6-8CA9D51358FA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ellular Communic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92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hort communication by radio from mobile handset to base 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ener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-360" y="4552560"/>
            <a:ext cx="8697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re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size depends on the number of channel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e up link and down link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SM – 900MHz, DECT – 1.8GHz, 3G – 2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1125360"/>
          <a:ext cx="5592600" cy="35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125360"/>
                    <a:ext cx="559260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55F-8E1A-46B1-8B02-B010D984E69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eneralised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60213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628640"/>
          <a:ext cx="914400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68D-4001-451B-90CB-E8AD2E33CFEF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ulse Amplitude Modul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2484360" cy="36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ue voltage measured at regular time interval and the values transmi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194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340000" y="1521000"/>
          <a:ext cx="6804000" cy="47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521000"/>
                    <a:ext cx="68040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113-B5A7-41AD-817B-84907A21E318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Width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3348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amplitude pul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th of pulse indicates the magnitude of the analogu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0" y="1267920"/>
            <a:ext cx="212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W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348000" y="1197000"/>
          <a:ext cx="579600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1197000"/>
                    <a:ext cx="57960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018-560C-4FE0-8A0B-0A4E512A3E3E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Position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3276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lses are of constant amplitude and d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lses are delayed at each sample by an amount that is dependent upon the amplitude of th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2843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P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03640" y="1197000"/>
          <a:ext cx="5940360" cy="53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197000"/>
                    <a:ext cx="5940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1CA-D3D3-4FDE-8008-3CDF97C1908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Code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3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mplitude of the analogue signal is samp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ple is then converted into a binary value by an A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nary value is transmitted in serial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2433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C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76720" y="1125360"/>
          <a:ext cx="5487840" cy="573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125360"/>
                    <a:ext cx="5487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142-A757-432B-94C4-A537821D30B2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al Transmission -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6979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ial v Parall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lf Dupl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e device transmits, the other rece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transmission medium i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Dupl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Both devices transmit and receive at the sam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wo transmission media are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chronous / Asynchron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sh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TS  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E3E-4BE4-4F65-8FAA-F1400B1FE6A5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al Transmission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32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0100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0" y="3789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op bit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ity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ud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43280" y="1341360"/>
          <a:ext cx="63007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341360"/>
                    <a:ext cx="63007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035-3175-4F63-91ED-FD0E525D9B51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 Transmission - 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hift Regis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-360" y="3933360"/>
            <a:ext cx="889308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rising edge of each clock pulse, the data from a D-type flip-flop is stored in the next D-type flip-fl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ata transfer occurs all of the way along the shift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the output of the last flip-flop is l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data applied to the input of the first flip-flop is taken into the shift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5280" y="1413000"/>
          <a:ext cx="725976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72597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142-C38B-4A02-835C-C0BC52B8F762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5300640"/>
            <a:ext cx="86979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plexer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multiplex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oth need a clock and a two bit coun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197000"/>
          <a:ext cx="4140360" cy="39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414036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00720" y="1197000"/>
          <a:ext cx="4643280" cy="409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1197000"/>
                    <a:ext cx="464328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791-8BB1-4ACD-9961-AAD177CBF4C1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bre Optic Commun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er diode transmitters  0.9 – 1.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N diode rece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0" y="4365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ternal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cat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with wir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637000"/>
          <a:ext cx="8532720" cy="15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37000"/>
                    <a:ext cx="853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DB5-F13F-47D9-811F-0777690E1451}" type="slidenum">
              <a:t>28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axial C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er conductor shields inner condu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 Impedance - 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/ 7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5dB/10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ble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eakage current between condu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 o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 ratio = 0.6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557360"/>
          <a:ext cx="914400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91440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87E-D450-4E31-A1CB-63A493C6C6D7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wisted Pair C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sig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 Impeda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2.2dB/10m at 100M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ble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eakage current between condu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 o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 ratio = 0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773360"/>
          <a:ext cx="91440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73360"/>
                    <a:ext cx="91440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FE2-740B-4480-A6AB-241216171A6E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ree Spa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waves  c=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92.4dB/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=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557360"/>
          <a:ext cx="9144000" cy="24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9144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447-F680-4DB5-8E3D-39C3098CEA56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ptical Fib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ternal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3dB/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268280"/>
          <a:ext cx="91440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7B7-F64E-4EA7-9366-17920B52B6C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ables more information to pass along a communications med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Division Multiplex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alogue and Digital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eparate carrier frequency for each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Division Multiplex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gital Information o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eparate time slot for each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BB8-7770-4B31-B4E2-587EA61126F0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Degrad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Ohmic l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Interference from adjacent c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Different frequencies travel at different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Signals produced and added to a signal as a signal passes through a communication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Random additional signals added to a signal as it passes through a communication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12A-5F83-4D2B-A170-EFFD32997AFF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to Noise Rat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cibel – logarithmic rat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dd together for each 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fication increases both the signal and the 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95280" y="1484280"/>
                <a:ext cx="83534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al to noise ratio = 10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pow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4952880"/>
                <a:ext cx="86040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al to noise ratio = 20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volta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voltag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485-41E5-4BE3-9830-27E91E6DB18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08-04-27T09:57:59Z</dcterms:modified>
  <cp:revision>75</cp:revision>
  <dc:subject/>
  <dc:title>ELE2</dc:title>
</cp:coreProperties>
</file>