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0235-BA88-44EA-BA6B-09D07714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3D6-3CE5-4622-B996-9FC9BC2D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33A-4DED-4892-84DF-301CD1E1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031-EED7-4EE1-9011-7FDADFB2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BEB-4BCD-41D3-BF4A-AE6300FD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EE7-2D30-4831-B397-BF09614B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FF7-9588-487D-96F6-AD6A7546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B7B-CBD9-420E-9273-BC2F436A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8D5-1F55-40EF-A18A-7069D097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308-B30C-40EA-B47D-EEF07890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2EF3-0F80-46C6-A9CE-A59C8BCD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778-C3A3-42DF-B14F-4573C0E0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1027-40A8-4138-95FE-B3E3E3CA75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ELE4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CONTROL SYSTEM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REVISION NOTE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Neural Network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arison with P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NN processors very simple but very many used, traditional computer processors very complex but only a few use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NNs retain data in the weightings of the connections made, computers have dedicated memory compon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NNs are trained - changing the weightings of the connections made with experience, computers follow a pre-described set of instru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NNs best at predictive tasks, computers better at calcul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istate buff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3789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Three states – 0, 1, open circ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Enables data to be put onto a data bus without causing ‘bus contentions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Output Enable (OE) often ‘active low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One needed per b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258920" y="1125360"/>
          <a:ext cx="7885080" cy="26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125360"/>
                    <a:ext cx="7885080" cy="26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ta Latch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Enables data to be outputted from data 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Processor sets valid data onto data bus and then pulses CK hi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Data captured and stored in lat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One flip-flop needed per b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416560" y="260280"/>
          <a:ext cx="3727440" cy="623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6560" y="260280"/>
                    <a:ext cx="372744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560" y="907920"/>
            <a:ext cx="770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gital to Analogue Converter (DAC)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79200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ually connected to data bus via a lat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2162160"/>
            <a:ext cx="352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03640" y="1844640"/>
          <a:ext cx="5940360" cy="35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1844640"/>
                    <a:ext cx="594036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55640" y="2205000"/>
            <a:ext cx="259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129760"/>
            <a:ext cx="30589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Rf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R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Rf, 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8R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6Rf,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32R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64Rf,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8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Analogue to Digital Converter (ADC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35272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gital Ramp AD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0" y="2492280"/>
            <a:ext cx="40384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increments output from DAC until the analogue voltage is greater than the analogue input vol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ator detects this and ACK is pulled 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35280" y="1268280"/>
          <a:ext cx="5508720" cy="34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1268280"/>
                    <a:ext cx="550872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0" y="5634000"/>
            <a:ext cx="813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detects this and so the last number it   sent to the DAC is equivalent to the analogue input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lash ADC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y fas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compar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s: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igital oscillosco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735440" y="333360"/>
          <a:ext cx="4408560" cy="616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5440" y="333360"/>
                    <a:ext cx="44085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Centronics type por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5516640"/>
            <a:ext cx="8351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 address usually &amp;H37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341360"/>
          <a:ext cx="9144000" cy="38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914400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chmitt Trigg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2196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switching po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Hystere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duces false switching on noisy sign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s a comparator with a variable reference volt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voltage at P when the output is hig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his gives the upper switching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voltage at P when the output is low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his gives the lower switching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270400" y="1413000"/>
          <a:ext cx="3873600" cy="395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70400" y="1413000"/>
                    <a:ext cx="3873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ptical shaft encode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3132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ution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360/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degr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n=number of r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0/S degr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S=number of sl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-360" y="4437000"/>
            <a:ext cx="86979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cal Shaft Enco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ngular direction, speed and absolute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otted Disk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one sens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ngular speed and relative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95640" y="1125360"/>
          <a:ext cx="6048360" cy="310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5640" y="1125360"/>
                    <a:ext cx="6048360" cy="31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hotodiod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3348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 LED calculations often included in these questions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0" y="378936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todiodes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Can produce a small voltage – 0.6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ften used in reverse bias m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verse bias current proportional to incident l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Very fast response time (LDRs are very slo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76720" y="1341360"/>
          <a:ext cx="5867280" cy="220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41360"/>
                    <a:ext cx="5867280" cy="22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 Loo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No feedbac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osed Loo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educes the effect of the in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Output reaches an adjustable steady end 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ncreases the effect of the in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Output oscillates or satur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epper Moto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5796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otates through a precise 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7.5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° for 4 pole mo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1.8° for 6 pole mo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s control electronics to continuously ro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Current applied in turn to each set of co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-360" y="5211360"/>
            <a:ext cx="869796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s torque and speed of rotation than traditional mo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865840" y="1052640"/>
            <a:ext cx="3278160" cy="33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ven segment displa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57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ven LEDs for segments plus one for the decimal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binations lit to display numbers and charac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Eg a, b, g, c, d for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ndard calculations apply to each LED (segme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183360" y="1557360"/>
          <a:ext cx="2960640" cy="453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83360" y="1557360"/>
                    <a:ext cx="29606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ot matrix displa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5800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xed displ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nly one column powered at any on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lies on persistence of 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Can be dimmer than normal display since each column is only illuminated for 1/5</a:t>
            </a:r>
            <a:r>
              <a:rPr b="0" lang="en-US" sz="2400" spc="-1" strike="noStrike" baseline="30000">
                <a:solidFill>
                  <a:srgbClr val="0000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Ds to be lit are selected via the Row connections as each Column is power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035840" y="0"/>
          <a:ext cx="2117520" cy="280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5840" y="0"/>
                    <a:ext cx="211752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654520" y="2852640"/>
          <a:ext cx="3489480" cy="400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4520" y="2852640"/>
                    <a:ext cx="348948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eneral syste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458136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un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ystere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916280"/>
          <a:ext cx="9144000" cy="23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9144000" cy="23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icroprocessor 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558936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700280"/>
          <a:ext cx="9144000" cy="360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91440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 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ol 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00720" y="1197000"/>
            <a:ext cx="401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ory Map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/O Map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at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ru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System on a Chip (SoC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C/AV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IS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rvard Archite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Separate Instruction 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Adap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low Char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determine the sequence of operations requi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ids logical thou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628640"/>
          <a:ext cx="9144000" cy="185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914400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Q Basic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– LOOP – WHILE/UNT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– NEXT - STE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– THEN – 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SUB – RETU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KEY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ger - 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ing - $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06-05-14T09:52:01Z</dcterms:modified>
  <cp:revision>61</cp:revision>
  <dc:subject/>
  <dc:title>ELE2</dc:title>
</cp:coreProperties>
</file>