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774238" cy="6638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025-0061-4F74-8957-658B87EE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3D5-6577-4745-877B-B706736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326-D039-4E52-A64E-37C74950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069-E3BA-4542-A6C5-F0975646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677-AF85-413F-AAA9-CE8836AD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583-539C-494D-988F-E8A496B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BEF-5127-4451-B098-6FDAB39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2C5-D59E-4393-ADFD-84E4DB18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87F-8E0A-4756-B477-22DFD854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29D-302E-4F62-827D-DEF9FEC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AB2-1763-4C28-96C8-482489A7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DE5-E491-4B34-AD4A-D47A6B5F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AB4D-3710-4934-8DC5-EDB610F3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hysics at 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VISION NO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24D-3D36-461C-8B93-1F685BFBCC51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58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1268280"/>
          <a:ext cx="7417080" cy="5537160"/>
        </p:xfrm>
        <a:graphic>
          <a:graphicData uri="http://schemas.openxmlformats.org/drawingml/2006/table">
            <a:tbl>
              <a:tblPr/>
              <a:tblGrid>
                <a:gridCol w="1148040"/>
                <a:gridCol w="1493640"/>
                <a:gridCol w="1386000"/>
                <a:gridCol w="3389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velength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-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ray shadow graphs, crystallography, radi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-r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electr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ray shadow graphs, crystallography, radi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vio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t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sation, fluoresc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ble 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7 ×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obje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tub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, astronomy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 ob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 vision, cooking, astron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wa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cillating electrical circ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, entertainment, television, radar, coo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cillating electrical circu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s, entertainment, tele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250-A3CE-45C9-B12B-444D6A150CEE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s of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verse – displacement at right angles to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itudinal – displacement parallel to the direction of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e wave – wave is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ing (stationary) wave – when two progressive waves meet travelling in opposite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des – minimum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tinodes – maximum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node and antinode  -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onance tube, Melde’s experiment, spring, son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CFC-186F-4C2C-8D8D-CB3E6D5934C0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itudinal pressur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displacement 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phase 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tub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2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3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4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ed tub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3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5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rings - wave velocity - tension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quency depends on length, tension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41480" y="4724280"/>
                <a:ext cx="6194520" cy="17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B2D-73BA-4426-AE6D-BAD0B13F144F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v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vefront – the surface showing the position of the w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 – the difference between two waves – usually expressed in degrees or rad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rence – when two waves of similar amplitude have a constant phase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difference – the difference between two waves – usually expressed in wavel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ase difference = 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path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D49-3D88-45D2-B396-54D8B5B3E0EC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hange in direction of a wave due to a change in wav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tal Internal Reflection – light travelling from more dense to less dens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angle  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1/s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ptical fibres - 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prisms – periscopes, binocular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2268360" y="2349360"/>
          <a:ext cx="3095640" cy="11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2349360"/>
                    <a:ext cx="309564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937-9E49-4F38-81AF-39BA8A5DA1A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ing - parallel light rays all made to pass through a point - the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 fatter in middle than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focal length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t object,  lens formula, reflection at 2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781360"/>
          <a:ext cx="9144000" cy="24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1360"/>
                    <a:ext cx="914400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401-E002-4C10-9F89-C34307192745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ing - parallel light rays all appear to pass through a point - the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 thinner in middle than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2637000"/>
          <a:ext cx="8280360" cy="395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637000"/>
                    <a:ext cx="8280360" cy="39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0BB-F577-4E0C-8D5F-770E9D4D10F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 formul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 = distance of object from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 = distance of image from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= focal length of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ear magnification = v/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l is positive sign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of a lens = 1/f  Dioptres (f in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n lense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 together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084720" y="1989000"/>
                <a:ext cx="26672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08360" y="5013360"/>
                <a:ext cx="51832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32A-B91E-4249-8DE6-B9E1187819D1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arisation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m radiation vibrates in just on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laroid – sun glasses – removes gl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rossed polaroids stop light pa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ss analysis in pla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centration of (sugar)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CD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ongitudinal wav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an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be pola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32F-E329-4D13-ACC2-6EE43AC81AE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gle of incidence = Angle of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at the boundary between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of the wave is refract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se echo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nar (remembe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), ultrasound s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lution limited by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resolve distances less tha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A4F-29BB-4B81-ADD3-BE142EEE1A8B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nsity and Fl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ty = mass / volume  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 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ide by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multiply by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nsity of wat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≈ 1000kg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Upthrust = weight of fluid displ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n object floats in a fluid if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density of the object is less than that of the fl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upthrust is greater than the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chimedes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1B0-9173-4860-910F-BBC5ABCE950F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icles or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articl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, Photoelectric effect, atomic spec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v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, refraction, interference, dif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hotons – packets of e-m energy (wav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 =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ons between discrete energ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adiant flux – Power per square me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775-23F6-4034-90FB-AB098BADF9E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otoelectric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idence for light a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ns emitted from a metal surface when short wavelength light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 = hf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reshold frequency – minimum frequency for photoelectrons to be emit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is the work function of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V = 1.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33E-3F74-4190-B9D6-A0653B6F43CB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ppler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of received frequency owing to movement of source or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velength changes owing to th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– polic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– red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ar speed tr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864-20C6-4A72-BF24-A438F5930DE6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raction – the spreading of waves beyond the geometrical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dence that light is a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noticeable when obstacle/gap is comparable to the 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raction g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= n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ectron dif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aves as particles – particles as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= h/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294-1CF8-478B-908E-3D75E7CD70E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ves must be co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position (addition)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hase, path difference {(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}, 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ut of phase, {(n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},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Ripple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Young’s double s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87840" y="5462640"/>
                <a:ext cx="162252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E94-46C1-405F-9650-31927E580E13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Hz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1,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Hz, k, k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V, mA,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×0.000 000 000 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847-44F1-4EFA-8276-FAB4D7D1B38A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016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in context – read the context – underlin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carefully at diagrams – circle and name relevant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relevant bookwork descriptions and calculations – answer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mpt all sections – no credit can be given if there is no attempt at an answer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show your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te and expl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o bot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AC1-2CE0-4087-BAEB-322CDCA3475C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864-C0E7-4714-AC74-4C0E8017AC3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073-825C-44F6-8EF2-2553ADB5B85C}" type="slidenum">
              <a:t>28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ids and 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luid is any substance that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= force/area    N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n a fluid = h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.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erminal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maximum velocity an object can achieve when passing through a flu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en the weight = upthrust plus the viscous drag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B49-E234-448D-921D-A7589AEC01D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id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reamline – the path taken by the fl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aminar flow – when the fluid flows smoothly around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urbulent flow – when the flui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oes not flow smoothly around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ate of flow of a fluid is related to its viscosity.  Units Pa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kes’ Law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= 6πη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cosity depends o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392-5BCD-4DEB-A342-B4A5CF12CDA5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 and Pla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last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ormation, the object returns to its original shape and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last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ormation, the object does not returns to its original shape and size, but retains a permanent de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oke’s law   F = k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x  so long as the limit of proportionality is not exc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.e. graph remains stra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lastic limit – beyond this a permanent extension i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4BC-14C7-49F2-A82C-C167BE67AF0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tching and squ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0560" y="1413000"/>
            <a:ext cx="8504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yond the yield point the material becomes plastic and does not return to its original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ss = force/cross sectional area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in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/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n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ng’s modulus = stress/strain 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nsile –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ressive - squ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0496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C8B-F54C-48E5-B7DF-8EF9AF9C1FE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57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leable – can be hammered into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ctile – can be drawn into w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– difficult to indent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tle – little plastic deformation befor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ugh – large plastic region befor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ng – high breaking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iff – large Young’s mod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le – small Young’s mod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F64-E5B8-4901-8E94-B28478C6C61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 strai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1280" y="1125360"/>
            <a:ext cx="82152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stored in a material due to being deformed.  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he area under a force v extension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e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 F.x  = ½ k.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ergy/unit volume = ½stress.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86A-F33D-4182-B5EE-7C1BFED7E381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875808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aximum displa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ime taken for one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the number of wav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how fast the wave tra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distance travelled by a wave in one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 = 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24000" y="836640"/>
          <a:ext cx="5148360" cy="33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836640"/>
                    <a:ext cx="5148360" cy="33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71C-B975-429B-BA98-94D0AAE97FC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5-12T08:06:14Z</dcterms:modified>
  <cp:revision>69</cp:revision>
  <dc:subject/>
  <dc:title>U4</dc:title>
</cp:coreProperties>
</file>