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3B8-58CF-489A-8291-2CCC5179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4CC-12AC-4344-AEF7-43804F44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A6B-0C58-4B2F-A3FC-C391641E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4FB-29AD-4BFD-BD1D-7026A7B2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495-D489-4F68-8BE6-39D8983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54D-3AB2-41EF-96FC-FC16C3B2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877-58C1-49CD-913D-8DB6F5FF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54B-B890-4796-9CED-DE327F36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854-E1B3-4449-828A-F380485F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15D-B72E-4B2C-9F55-8810F62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A4C-9590-476E-B0F1-7BD6491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222-6EDE-4D63-9C50-958028F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B2CD-4FC3-436C-A136-24AF41C66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927-1E1E-4E15-BD41-ADBF7F0B02AA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nergy is the capacity to do work.  Jo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ork done = 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distance moved in the direction of the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 = F.s.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ravitational potenti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energy an object has because of its positi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a gravitational field.  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= mg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energy an object has because of its velocity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k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½m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CAC-BEE3-474C-A7F8-AC75726C6B6C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– the rate at which work is done or energy transfer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= work done/time taken    W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= energy transferred/time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= 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A67-CC37-4EF8-88E8-0F7FB31BA9A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it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– rate of flow of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  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difference – the energy lost by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 = W/Q 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ries circuit – current the same, voltage sh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rallel circuit – voltage the same, current sh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14C-4857-4F8A-AD77-15CEDC109D5A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sistors i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=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+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+ 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sistors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/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= 1/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+ 1/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+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hm’s Law  V =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R for ohmic conductors at constant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-V curves for diode, filament lamp and thermi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etals have a positive temp. co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miconductors have a negative temp. co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36A-DCD2-4EE7-A97F-924B65D33AC0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it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wer  P =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I =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R =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R 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nergy = Pow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time = V×I×t 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MF – electromotiv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.d. across the terminals of a source of electricity when there is no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 = V +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 is the internal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0040" y="2492280"/>
                <a:ext cx="86104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icienc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seful</m:t>
                        </m:r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A17-0D67-44FA-9B3F-5C295A0FDF45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=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 electron theory of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ion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miconductor imp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charg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istivity ohm.me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di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16360" y="5300640"/>
                <a:ext cx="29048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2C3-B31B-4A35-A16C-B4A6C3E6939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Hz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Hz, k,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V, mA,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F14-AF19-4C34-A1EF-92D3020E9849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diagrams – circle and nam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1C0-0A2E-46A8-8BB8-64B1EC87CD9C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F1F-67C5-4EF3-B710-18BEC3479FBB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F64-8AFE-4D53-9769-55ADE41781F9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iform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dimension – no acceler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tance = 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dimension – uniform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= ut + ½a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2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½(v+u)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t - ½a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125-952E-46EE-BD7A-F331EFB0AF80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C21-3EFC-47D5-8548-5BC1DCE9CC94}" type="slidenum">
              <a:t>20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on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dient of displacement time graph is velocity.  (m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a under velocity time graph is displac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dient of velocity time graph is acceleration.  (m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oboscope photos, light gates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D73-A94B-44C1-BAC2-9438B1845A0C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jec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rizontal and vertical velocities are in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tical motion is that of gra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rizontal motion is constant assuming no friction or air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tical component 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v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rizontal component 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v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(wher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is between launch and 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CC2-AF4C-496C-BFFB-F9A93F350D5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ars and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lar – magnitud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ance, speed, wor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ctor – magnitude and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placement, velocity, forc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olution  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v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 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v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between vector and 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ythagora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ector triangle  (polygon) – scale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933-0712-4A80-BBC5-9FB78CA7A354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s and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ment = 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perpendicula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its N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inciple of Moment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ockwise moments = Anticlockwis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ntre of mass – the point through which all of the mass appears to act.   (C of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and stable when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rizontal force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rtical force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ockwise moments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ticlockwis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496-A48B-4430-ADF3-1C8874BA570B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1.  Acceleration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body continues in its present state of rest or uniform motion in a straight line unless acted upon by a resultan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2.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∑F = m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rate of change of momentum is proportional to the applied force and takes place in the direction of tha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aw 3.  Conservation of moment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every reaction there is an equal and opposit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6F6-C9F1-4BCF-B995-9605CFD230C0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mentum = ma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veloc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= mv    N.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ervation of momentu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mentum before = momentum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ulse = Force ×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v  (Newton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ton 3 - Forces: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 on different bod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me magnitu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 in opposite dir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e the s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B84-5E1A-49C4-8F9A-AAEB76BA6E26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s and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 is what you buy – weight is what you carry home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vitational field strength, 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= F/m    N.kg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 =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 = acceleration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 = 9.81m.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EAB-35B8-4F64-95A8-F99D886A9D6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4-03T09:20:34Z</dcterms:modified>
  <cp:revision>64</cp:revision>
  <dc:subject/>
  <dc:title>U4</dc:title>
</cp:coreProperties>
</file>