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774238" cy="6638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890-5739-4C8B-92BF-3CF0B2DA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245-6EC3-4F86-8357-6F1A361F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A3E-B0C0-40BD-A69C-DB013CB1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190-1565-40FD-905F-168D6CB8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A79-C827-43A6-8B86-CDB208D2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FBE-B6AB-4B42-A93E-8EBA3CA1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FC2-4FDB-409B-A127-64097C59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AE3-316F-40D6-8C0A-AA5BFC18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F5D-3B27-4B96-B73D-A3A182F2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FFB-DF24-4838-B0A5-28DDE63F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092-450C-4B1A-B6F4-507CC249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292-6DAC-4B1D-BA06-621AE7D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8466-2567-47B9-91F5-0A20B3D95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499920"/>
            <a:ext cx="792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rom creation to collap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8C2-9813-4667-A8DD-7D4B73BA5510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smolog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42920" y="1916280"/>
          <a:ext cx="6985080" cy="42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16280"/>
                    <a:ext cx="69850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809-66E9-4158-BCE1-7BECB277DA07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smolog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cycle of a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gen and space debris collects together owing to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uses the temperature to increase until fusion st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 burns Hydrogen, then starts to expand fusing the heavier elements, forming a red gi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fuel runs out, gravitational collapse occurs leading to super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ing on mass of star either a white dwarf, neutron star or black hole 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90E-1FE8-472F-9871-BA1351A6D25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lack body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ltra-violet catastrop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phan’s Law  W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 a star  L = 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ien’s Law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T = k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89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3AF-CA0F-4B64-AD4C-0063C3FB3940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ppler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red shift, z = ∆λ/λ ≈ ∆f/f ≈ v/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egative then the object is moving towards the ob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87280" y="2563920"/>
            <a:ext cx="6121440" cy="4024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43120" y="32457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∆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λ≈ 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67B-87D8-46B7-8B6C-0C670AF01EA2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ubble cons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win Hubble discovered a link between the velocity of a star (v) and its distance 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 =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Hubble constan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≈ 2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an be used to find the distance of any stellar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ome issues with predicted size and age of universe  (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ark matter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D68-6C8D-4F97-AE42-9B6B0D1591BA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ple Harmonic Mo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leration is proportional to the displacement and is directed towards a fixed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 -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x = -A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V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√(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– 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) = -A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x = A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1/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DE8-E90E-454D-B770-B27514D601DC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ple Harmonic Mo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dulum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(l/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pring  T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(m/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tal energy of a SHM oscillator is constan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exchanges between PE and 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 oscillations – natural resonant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mped oscillations – loss of energy so oscillations di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ced oscillations – energy supplied to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amplitude when supplied at resonant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A06-913E-43F1-93A2-9080A327A3D8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,000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Hz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Hz, k,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V, mA,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A4C-9FCB-48A5-B440-EAA37365C59C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016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in context – read the context – underlin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carefully at diagrams – circle and nam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relevant bookwork descriptions and calculations – answer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all sections – no credit can be given if there is no attempt at an answer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how your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 and exp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o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E6E-DF56-487A-A1F6-5644873B8506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C87-F3C4-4644-917B-35511F3A51CE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 =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c×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 = specific heat capacity  Jkg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dom distribution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and kinetic energy amongst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kinetic energy related to the absolut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ideal g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A82-F9E1-4DA6-9E2B-869A8458476F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D1F-9252-4FB5-84B2-C97D87120220}" type="slidenum">
              <a:t>20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quation of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V = nRT = 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yle’s La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V = ‘konstan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arles’ La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V/T = ‘konstan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La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/T = ‘konstan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mperature must be abso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 = Molar ga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 = Boltzmann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3A7-5B70-4379-8607-04F98EB7AA16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dioactivit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mic radiation, Radon, man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particles  - Helium nucleus  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ange 5cm in air, thin sheet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ighly ionising, short straight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ss number -4, Atomic number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particles – nuclear electrons  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r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ange of energies, stopped by several mm of 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aint tracks, range of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ss number unchanged, Atomic numbe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F47-197C-4595-B22B-35AD85A65885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dioactivit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rays – em radiation –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&lt;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  Co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t emitted on its own, accompanied b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ange several cm of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dustrial X-rays, sterilisation, radi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1Bq – becquerel – 1 disintegration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C2D-AB54-4E89-B6E5-2BE2F362ECE6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dioactivit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oactive decay – random and spont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e of decay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number of unstable atoms rem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/dt= -λ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alf life – time taken for half of the unstable atoms to deca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ln2/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u = atomic mass unit = mass of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of C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atom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u = 1.6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E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720-CC89-49B0-BF65-5C00F4D30A81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dioactivit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clear 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litting of large nuclei to form smaller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y released owing to products being more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clear fusion – very larg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ing of smaller nuclei to form larger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y released owing to products being more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 difference – Binding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6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as the greatest bind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456-0E0A-4B52-B375-8886D0542AC4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ton’s law of gra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quate to centripetal force for satellit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r = m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GMm/r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c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gra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ong, short range, attractive and repul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, very long range, only att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084720" y="1341360"/>
                <a:ext cx="19447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227640" y="2565360"/>
                <a:ext cx="15112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C59-398E-4E20-925B-A8A3666ABC46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smolog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ant flux = Luminosity/4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rallax method of finding stellar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nly works for nearby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uminosity and Cepheid variables for more distant stars – standard cand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epheids – 4 – 20 times the mass of the sun. The period of light fluctuation is related to its intrinsic lumino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upernova – standard candles for more distant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B77-5004-459B-AD17-FAA5FA1EE7A3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1-05-17T20:10:54Z</dcterms:modified>
  <cp:revision>60</cp:revision>
  <dc:subject/>
  <dc:title>U4</dc:title>
</cp:coreProperties>
</file>