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437-3629-41B9-A313-4E2BA5A3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498-1376-4808-8379-62BD85D8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F7F-88BC-4EFF-A9A4-AA63EEF7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660-BD04-4573-8261-1F78CBFA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925-484C-43F4-9503-6099DA9B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1D5-B03A-4051-BEB2-A3751CF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29B-F168-4F3B-A01D-1A04BD3D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E47-33CD-480C-8491-C9F1FCEE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5DE-7587-42D3-BEB1-3BD3905D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2DB-9514-456D-8E5B-4373B0BE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727-C61F-46F1-84A3-740F5C5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D74-8462-447D-9050-0A6176EE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3548-342D-48E1-B0A9-0DCB7D32B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499920"/>
            <a:ext cx="792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8A7-B52A-4459-8DE7-FDBC286D4F26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eming’s Left Hand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71280" y="1341000"/>
            <a:ext cx="5915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o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= BIL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 = Bqv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ventional current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1557360"/>
          <a:ext cx="2728800" cy="36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2728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BDC-324A-4A46-864D-43EEA7DFC0ED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re is a change in flux linkage between a conductor and magnetic field, a voltage is induced in the condu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aday’s Law of Electromagnetic In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d(N</a:t>
            </a:r>
            <a:r>
              <a:rPr b="0" lang="el-G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nz’s Law – conservation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duced voltage always opposes the effect produc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0" lang="en-GB" sz="4800" spc="-1" strike="noStrike" baseline="30000">
                <a:solidFill>
                  <a:srgbClr val="000000"/>
                </a:solidFill>
                <a:latin typeface="Arial"/>
              </a:rPr>
              <a:t>d(N</a:t>
            </a:r>
            <a:r>
              <a:rPr b="0" lang="el-GR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D55-8247-4179-8FA3-40CBE1658F5A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Field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on a + charge and end on a –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         –  Motion of an isolated +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es do not cross.  Neutral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al field?                       Uniform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 field strength, E = F/Q = V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ts N.C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and V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249228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2AF-0DC9-4113-9818-1EF0897E0BC1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 Fiel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omb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 field intensity of a point charg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51280" y="1268280"/>
                <a:ext cx="237636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20920" y="3301920"/>
                <a:ext cx="23400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6C3-05E6-417A-A9D5-35E8B2E72085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onic E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ns emitted from hot metal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ged particles accelerated by electric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½m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qV      (for v &lt;&lt;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ged particles deflected by electric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b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ged particles deflected by magnetic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2m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for v &lt;&lt;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EFA-7AF2-41D4-A5EC-F0DE1AAB3A98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Coll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50560" y="1413000"/>
            <a:ext cx="8504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nergy and momentum con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astic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1d – as normal coll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2d – resolve into 2 directions at 9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ply p conservation independ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= vcos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,  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= vsin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,  Pythago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dentical masses –  angle after = 9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eavy hits light - angle after &lt; 9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ght hits heavy - angle after &gt; 9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04960"/>
            <a:ext cx="9144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D80-EA92-4D30-8EBB-6BF47C8B108B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radians = 18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angular displacement, 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angular velocity   rad.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    T = 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entripetal force = mv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/r = mr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rected towards the centre of the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entripetal acceleration = v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/r = r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414-E0CA-4097-B5A9-223DBECDE743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Accel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11280" y="1125360"/>
            <a:ext cx="82152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ear – high vol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yclo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eration    r = p/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49A-BF1A-4D77-A4FA-5B30BF80033C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icle Det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rk, gm tube, ionisation ch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k, cloud, bubble,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charged particles produce 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gnetic fields to differentiate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 = p/B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5F1-BC05-494B-9888-318F7736517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4920" y="141300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mentum, Energy and Charge con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 =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ectron-volt  eV = 1.6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-19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    (E=q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V,  MeV, 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ss  MeV/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 GeV/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(1.78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u  1/12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   (1.66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cleon number (mass nu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ton number  (atomic nu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utherford experiment – nuclear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BBD-5619-4788-BC25-3C8F93FE3ECA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=mv    Units:-  kg.m.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N.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isolated system momentum is alway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ton 3  -  “To every action there is an equal and opposite rea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DEB-4EB6-4C6F-AF62-3287BF046B2C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389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ptons  (12 in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ctron (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, positron (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, neutrinos (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ν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 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Hadrons (quarks)  (12 in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p, down, strange, charm, bottom, 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ryons (3 quarks)    proton , neutron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sons  (a quark and an antiquark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ion (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,   et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interactions, charge and baryon number are con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ergy loss forms new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02F-E268-4D68-8995-01591FAC9AFE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42920" y="1484280"/>
          <a:ext cx="7055640" cy="4752360"/>
        </p:xfrm>
        <a:graphic>
          <a:graphicData uri="http://schemas.openxmlformats.org/drawingml/2006/table">
            <a:tbl>
              <a:tblPr/>
              <a:tblGrid>
                <a:gridCol w="1764360"/>
                <a:gridCol w="1763280"/>
                <a:gridCol w="1764360"/>
                <a:gridCol w="176364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tt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CA4-EA38-4FC9-9E25-EB5C1840AF8E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p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43320" y="385596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4578480"/>
            <a:ext cx="1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2400" y="53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79800" y="1144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79800" y="1144440"/>
            <a:ext cx="706320" cy="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79800" y="1144440"/>
            <a:ext cx="706320" cy="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1484280"/>
          <a:ext cx="7274160" cy="4969080"/>
        </p:xfrm>
        <a:graphic>
          <a:graphicData uri="http://schemas.openxmlformats.org/drawingml/2006/table">
            <a:tbl>
              <a:tblPr/>
              <a:tblGrid>
                <a:gridCol w="2143080"/>
                <a:gridCol w="1549440"/>
                <a:gridCol w="1513080"/>
                <a:gridCol w="2068560"/>
              </a:tblGrid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3x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.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CE7-5DC2-4BB5-92B0-77D49CFF99DF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s or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9528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 Broglie   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= h/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ctron dif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hotoelectric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CDE-4600-4773-82CD-CF57975DEF14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Hz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Hz, k,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V, mA,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653-B967-4C9D-8F01-09607BEFB8AD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diagrams – circle and nam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D71-55FB-46C0-A6A3-F27FD9FE9671}" type="slidenum">
              <a:t>25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ate of change of momentum of an object is proportional to the applied force and takes place in the direction of that for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mass is constant then  F=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203640" y="3573360"/>
                <a:ext cx="2376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DEF-7B32-4024-9C8B-A1007D363BAC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isolated system, energy is con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lastic collision, 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fore = 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inelastic collision, 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fore &gt; 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plosive collision, 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fore &lt; 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vitational potential energy = m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32000" y="1341360"/>
                <a:ext cx="20160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6F8-BD99-4474-B080-1F93D8D5C85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or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2276640"/>
            <a:ext cx="540072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or cha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  and    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332000" y="1268280"/>
          <a:ext cx="6624720" cy="92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268280"/>
                    <a:ext cx="66247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700360" y="3141720"/>
          <a:ext cx="6443640" cy="241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3141720"/>
                    <a:ext cx="644364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451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2349360"/>
          <a:ext cx="2122560" cy="324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2349360"/>
                    <a:ext cx="21225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50920" y="587700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cal units:- 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,  nF,  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550-08A7-4A20-86BF-13768E30C7B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or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508428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771640" y="5950080"/>
                <a:ext cx="2160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700360" y="4869000"/>
                <a:ext cx="2087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2708280"/>
          <a:ext cx="194472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08280"/>
                    <a:ext cx="19447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979640" y="2421000"/>
          <a:ext cx="6438960" cy="235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79640" y="2421000"/>
                    <a:ext cx="64389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979640" y="1413000"/>
            <a:ext cx="583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or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    and       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18F-C9E5-4CCE-B6F1-E8CBEBEC4BB6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pacitor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 = CV       Coulo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371628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onstant  T = 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 to charge to 0.63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 to discharge to 0.37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charge to 0.5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.69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fully charge or discharge = 5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771640" y="1844640"/>
                <a:ext cx="33130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68360" y="2060640"/>
            <a:ext cx="33829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32000" y="2924280"/>
                <a:ext cx="2376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E30-FD6F-4B11-A677-035F3196D2F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pacitor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stored in a capacitor is equal to the area under a Q v V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QV = 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½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nergy supplied is 2x the energy stored when charged from a fixed vol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DBD-D0D3-43C7-9D25-BB3251855C64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c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ion from N =&gt;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motion of isolated N p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loops – do not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tral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 magnetic flux    Webers  W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  magnetic flux density  Tesla 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/A     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BA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 magnetic flux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3DE-2FC5-4E1C-9C41-5D943F41FABA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10-30T12:31:37Z</dcterms:modified>
  <cp:revision>51</cp:revision>
  <dc:subject/>
  <dc:title>U4</dc:title>
</cp:coreProperties>
</file>